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41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png" ContentType="image/png"/>
  <Override PartName="/ppt/media/image46.wmf" ContentType="image/x-wmf"/>
  <Override PartName="/ppt/media/image11.wmf" ContentType="image/x-wmf"/>
  <Override PartName="/ppt/media/image48.png" ContentType="image/png"/>
  <Override PartName="/ppt/media/image51.wmf" ContentType="image/x-wmf"/>
  <Override PartName="/ppt/media/image37.png" ContentType="image/png"/>
  <Override PartName="/ppt/media/image40.wmf" ContentType="image/x-wmf"/>
  <Override PartName="/ppt/media/image8.wmf" ContentType="image/x-wmf"/>
  <Override PartName="/ppt/media/image38.wmf" ContentType="image/x-wmf"/>
  <Override PartName="/ppt/media/image52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28.png" ContentType="image/png"/>
  <Override PartName="/ppt/media/image31.wmf" ContentType="image/x-wmf"/>
  <Override PartName="/ppt/media/image29.wmf" ContentType="image/x-wmf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0.wmf" ContentType="image/x-wmf"/>
  <Override PartName="/ppt/media/image4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402-BEC1-41AA-8707-65009E2A7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CB09-D861-4243-B5A0-C4130ABC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DF85-BBE4-4F3E-A577-3B876A29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6B1D-9255-4626-8F2C-FB63CB1E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A476-7510-4E82-8FF9-4F3B5374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767F-71AE-4010-AD26-78C54EA8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E705-B575-4E74-8BF9-1F6688B7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1561-32C3-4CD0-AD19-3AA8702D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410E-0C9B-4ECF-A9EC-FBEE7F5D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F47-5AA4-4B3B-9591-9341129F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EA5-24CF-45FD-A509-D1E67BFA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3EE9-7332-4ACD-83B7-AB5780FB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730E-3B53-48A9-A053-5D18BB6715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7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23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package" Target="../embeddings/oleObject1.docx"/><Relationship Id="rId5" Type="http://schemas.openxmlformats.org/officeDocument/2006/relationships/image" Target="../media/image29.wmf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38.wmf"/><Relationship Id="rId5" Type="http://schemas.openxmlformats.org/officeDocument/2006/relationships/package" Target="../embeddings/oleObject2.docx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3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46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7.wmf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0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1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52.wmf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221360" y="1870200"/>
            <a:ext cx="10569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301"/>
              </a:spcBef>
              <a:spcAft>
                <a:spcPts val="13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第一单元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787400" y="609480"/>
          <a:ext cx="679320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9480"/>
                    <a:ext cx="679320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08200" y="1023840"/>
          <a:ext cx="6804000" cy="4505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1023840"/>
                    <a:ext cx="680400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787400" y="600120"/>
          <a:ext cx="6793200" cy="51498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87400" y="600120"/>
                    <a:ext cx="6793200" cy="51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600200" y="444600"/>
          <a:ext cx="680400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444600"/>
                    <a:ext cx="680400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2222640" y="2367000"/>
          <a:ext cx="5344920" cy="3382560"/>
        </p:xfrm>
        <a:graphic>
          <a:graphicData uri="http://schemas.openxmlformats.org/drawingml/2006/table">
            <a:tbl>
              <a:tblPr/>
              <a:tblGrid>
                <a:gridCol w="1558080"/>
                <a:gridCol w="1893600"/>
                <a:gridCol w="189324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类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举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49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艺术形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和表现手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话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雷雨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歌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白毛女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舞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丝路花雨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剧本繁简和结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独幕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一只马蜂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多幕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雷雨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222640" y="1604880"/>
          <a:ext cx="5643360" cy="3374640"/>
        </p:xfrm>
        <a:graphic>
          <a:graphicData uri="http://schemas.openxmlformats.org/drawingml/2006/table">
            <a:tbl>
              <a:tblPr/>
              <a:tblGrid>
                <a:gridCol w="1557720"/>
                <a:gridCol w="1892880"/>
                <a:gridCol w="2192760"/>
              </a:tblGrid>
              <a:tr h="1290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题材反映的时代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历史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现代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屈原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雷雨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按矛盾冲突的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悲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屈原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喜剧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威尼斯商人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正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悲喜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《白毛女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461960" y="82440"/>
          <a:ext cx="6793200" cy="4424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61960" y="82440"/>
                    <a:ext cx="679320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1450800" y="3346560"/>
          <a:ext cx="7545600" cy="2914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50800" y="3346560"/>
                    <a:ext cx="7545600" cy="29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836720" y="2185920"/>
          <a:ext cx="681372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6720" y="2185920"/>
                    <a:ext cx="681372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530360" y="195120"/>
          <a:ext cx="7386480" cy="43531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195120"/>
                    <a:ext cx="7386480" cy="43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1527120" y="4567320"/>
          <a:ext cx="7399440" cy="20955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7120" y="4567320"/>
                    <a:ext cx="7399440" cy="20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1630440" y="2268360"/>
          <a:ext cx="6811920" cy="1930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2268360"/>
                    <a:ext cx="68119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717560" y="276120"/>
          <a:ext cx="6794640" cy="3846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7560" y="276120"/>
                    <a:ext cx="679464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1738440" y="3594240"/>
          <a:ext cx="6792840" cy="2850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38440" y="3594240"/>
                    <a:ext cx="6792840" cy="28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1530360" y="2517840"/>
          <a:ext cx="6794640" cy="1428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0360" y="2517840"/>
                    <a:ext cx="679464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560600" y="2185920"/>
          <a:ext cx="6813360" cy="19303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60600" y="2185920"/>
                    <a:ext cx="6813360" cy="19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"/>
          <p:cNvGraphicFramePr/>
          <p:nvPr/>
        </p:nvGraphicFramePr>
        <p:xfrm>
          <a:off x="1712880" y="609480"/>
          <a:ext cx="7075440" cy="5403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609480"/>
                    <a:ext cx="7075440" cy="54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79680" y="941400"/>
          <a:ext cx="6794280" cy="4503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79680" y="941400"/>
                    <a:ext cx="6794280" cy="45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3603600" y="112680"/>
            <a:ext cx="2906640" cy="70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4087800" y="858960"/>
            <a:ext cx="191304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1630440" y="1420920"/>
          <a:ext cx="6811920" cy="50767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30440" y="1420920"/>
                    <a:ext cx="68119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630440" y="27792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27792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1668600" y="4152960"/>
          <a:ext cx="681336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8600" y="4152960"/>
                    <a:ext cx="681336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698480" y="2019240"/>
          <a:ext cx="6813720" cy="257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2019240"/>
                    <a:ext cx="681372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698480" y="692280"/>
          <a:ext cx="6813720" cy="50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692280"/>
                    <a:ext cx="68137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492200" y="692280"/>
          <a:ext cx="6811920" cy="5076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92200" y="692280"/>
                    <a:ext cx="6811920" cy="50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630440" y="776160"/>
          <a:ext cx="6811920" cy="5077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776160"/>
                    <a:ext cx="681192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698480" y="1854360"/>
          <a:ext cx="681372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1854360"/>
                    <a:ext cx="68137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738440" y="1355760"/>
          <a:ext cx="6792840" cy="338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38440" y="1355760"/>
                    <a:ext cx="6792840" cy="33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019400" y="112680"/>
            <a:ext cx="191160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1530360" y="609480"/>
          <a:ext cx="6813720" cy="250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30360" y="609480"/>
                    <a:ext cx="681372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1600200" y="3005280"/>
          <a:ext cx="7102440" cy="34923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3005280"/>
                    <a:ext cx="7102440" cy="34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1600200" y="277920"/>
          <a:ext cx="6811920" cy="3789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277920"/>
                    <a:ext cx="6811920" cy="37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600200" y="4152960"/>
          <a:ext cx="6811920" cy="1928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4152960"/>
                    <a:ext cx="6811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600200" y="606600"/>
          <a:ext cx="6811920" cy="25747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06600"/>
                    <a:ext cx="6811920" cy="25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600200" y="3281400"/>
          <a:ext cx="6792840" cy="27176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281400"/>
                    <a:ext cx="6792840" cy="271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638360" y="1604880"/>
          <a:ext cx="6804000" cy="32180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8360" y="1604880"/>
                    <a:ext cx="6804000" cy="32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019400" y="444600"/>
            <a:ext cx="1911600" cy="434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8" name=""/>
          <p:cNvGraphicFramePr/>
          <p:nvPr/>
        </p:nvGraphicFramePr>
        <p:xfrm>
          <a:off x="1668600" y="1108080"/>
          <a:ext cx="6792840" cy="4984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8600" y="1108080"/>
                    <a:ext cx="6792840" cy="498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1600200" y="360360"/>
          <a:ext cx="6811920" cy="6429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360360"/>
                    <a:ext cx="6811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084400" y="957240"/>
            <a:ext cx="6081840" cy="4627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1698480" y="527040"/>
          <a:ext cx="6951960" cy="5362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98480" y="527040"/>
                    <a:ext cx="6951960" cy="53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1668600" y="609480"/>
          <a:ext cx="693252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609480"/>
                    <a:ext cx="693252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1708200" y="360360"/>
          <a:ext cx="6804000" cy="257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08200" y="360360"/>
                    <a:ext cx="6804000" cy="257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1698480" y="2932200"/>
          <a:ext cx="6813720" cy="32176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98480" y="2932200"/>
                    <a:ext cx="6813720" cy="32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630440" y="2103480"/>
          <a:ext cx="6811920" cy="1928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0440" y="2103480"/>
                    <a:ext cx="68119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855800" y="609480"/>
          <a:ext cx="679464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55800" y="609480"/>
                    <a:ext cx="679464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806480" y="609480"/>
          <a:ext cx="6794640" cy="2576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06480" y="609480"/>
                    <a:ext cx="6794640" cy="25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1806480" y="3408480"/>
          <a:ext cx="6794640" cy="27572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806480" y="3408480"/>
                    <a:ext cx="6794640" cy="27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600200" y="682560"/>
          <a:ext cx="6945480" cy="51516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0200" y="682560"/>
                    <a:ext cx="6945480" cy="51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649520" y="444600"/>
          <a:ext cx="6792840" cy="53067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49520" y="444600"/>
                    <a:ext cx="6792840" cy="53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1668600" y="444600"/>
          <a:ext cx="6804000" cy="32162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444600"/>
                    <a:ext cx="680400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1717560" y="3594240"/>
          <a:ext cx="6794640" cy="26049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17560" y="3594240"/>
                    <a:ext cx="6794640" cy="26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668600" y="1108080"/>
          <a:ext cx="6804000" cy="38606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8600" y="1108080"/>
                    <a:ext cx="6804000" cy="38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7T02:57:07Z</dcterms:created>
  <dc:creator>微软用户</dc:creator>
  <dc:description/>
  <dc:language>en-US</dc:language>
  <cp:lastModifiedBy>Microsoft</cp:lastModifiedBy>
  <dcterms:modified xsi:type="dcterms:W3CDTF">2019-02-18T12:35:27Z</dcterms:modified>
  <cp:revision>72</cp:revision>
  <dc:subject/>
  <dc:title>幻灯片 1</dc:title>
</cp:coreProperties>
</file>