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5.wmf" ContentType="image/x-wmf"/>
  <Override PartName="/ppt/media/image76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1.png" ContentType="image/png"/>
  <Override PartName="/ppt/media/image1.jpeg" ContentType="image/jpeg"/>
  <Override PartName="/ppt/media/image89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81.png" ContentType="image/png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111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17.png" ContentType="image/png"/>
  <Override PartName="/ppt/media/image57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7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4DA-AF9F-4FAC-989C-ABCB9075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3D-3FCB-4514-9C65-6A6C9A5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EAC-A892-4656-9715-D4805B1E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0E9-4913-4B0F-8C69-1AA3B83C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F88-C145-4670-8F69-A92335C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AB0-5FA3-418F-AC6D-9F47CAB6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5BE-A762-4528-A5AE-8D81515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214-AE9B-4EF5-B717-90DF4947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DC3-23AB-4AF6-B34B-EC80DA3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EE9-5710-4B5A-8F44-5968354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44E-1E66-40E5-A4EE-BF02CC8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0B5-E09C-482D-9CFA-9E5E453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943-CD01-4B31-8714-555128747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0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75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92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3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94.wmf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6.wmf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8.wmf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2.wm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4.wmf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8.wmf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2.wmf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4.wmf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四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944720" y="360360"/>
          <a:ext cx="679464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4720" y="360360"/>
                    <a:ext cx="6794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44720" y="4867200"/>
          <a:ext cx="6813360" cy="1214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4867200"/>
                    <a:ext cx="68133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876320" y="527040"/>
          <a:ext cx="6811920" cy="387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8119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836720" y="4711680"/>
          <a:ext cx="68137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6720" y="4711680"/>
                    <a:ext cx="6813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87400" y="444600"/>
          <a:ext cx="679320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444600"/>
                    <a:ext cx="679320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83672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43280" y="157320"/>
            <a:ext cx="290196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461960" y="941400"/>
          <a:ext cx="6811920" cy="514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960" y="94140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738440" y="27792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27792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38440" y="529272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529272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69848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668600" y="27792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7792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668600" y="5375160"/>
          <a:ext cx="6813360" cy="1287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375160"/>
                    <a:ext cx="68133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00200" y="858960"/>
          <a:ext cx="68119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85896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461960" y="2682720"/>
          <a:ext cx="679320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2682720"/>
                    <a:ext cx="67932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98480" y="1771560"/>
          <a:ext cx="6813720" cy="257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771560"/>
                    <a:ext cx="68137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68600" y="527040"/>
          <a:ext cx="679428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527040"/>
                    <a:ext cx="679428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00200" y="527040"/>
          <a:ext cx="6792840" cy="563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7928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00200" y="277920"/>
          <a:ext cx="702468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70246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630440" y="4794120"/>
          <a:ext cx="6811920" cy="1287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794120"/>
                    <a:ext cx="681192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698480" y="102384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02384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30440" y="1273320"/>
          <a:ext cx="68119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273320"/>
                    <a:ext cx="68119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30440" y="277920"/>
          <a:ext cx="68119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7792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668600" y="456732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5673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668600" y="277920"/>
          <a:ext cx="681336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77920"/>
                    <a:ext cx="681336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30440" y="3508200"/>
          <a:ext cx="6811920" cy="2573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508200"/>
                    <a:ext cx="681192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00200" y="195120"/>
          <a:ext cx="6811920" cy="193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30440" y="1992240"/>
          <a:ext cx="6811920" cy="4505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99224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35200" y="776160"/>
          <a:ext cx="7121520" cy="473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5200" y="776160"/>
                    <a:ext cx="712152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30440" y="1273320"/>
          <a:ext cx="6811920" cy="386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273320"/>
                    <a:ext cx="681192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600200" y="11905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905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30360" y="36036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60600" y="406872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40687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00200" y="277920"/>
          <a:ext cx="681192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68600" y="464976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64976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630440" y="185436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85436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00200" y="360360"/>
          <a:ext cx="68119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600200" y="3591000"/>
          <a:ext cx="68119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5910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69848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68600" y="277920"/>
          <a:ext cx="681336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77920"/>
                    <a:ext cx="681336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738440" y="3591000"/>
          <a:ext cx="68119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5910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461960" y="542880"/>
          <a:ext cx="681192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42880"/>
                    <a:ext cx="68119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492200" y="3903840"/>
          <a:ext cx="68119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390384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806480" y="102384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102384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17560" y="52704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52704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600200" y="2779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60600" y="4175280"/>
          <a:ext cx="6813360" cy="1928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4175280"/>
                    <a:ext cx="681336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98480" y="1190520"/>
          <a:ext cx="681372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19052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98480" y="3882960"/>
          <a:ext cx="68137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882960"/>
                    <a:ext cx="6813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530360" y="360360"/>
          <a:ext cx="68137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530360" y="3497400"/>
          <a:ext cx="6813720" cy="2501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497400"/>
                    <a:ext cx="68137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530360" y="195120"/>
          <a:ext cx="6813720" cy="371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6813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392120" y="3843360"/>
          <a:ext cx="7104240" cy="2511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3843360"/>
                    <a:ext cx="710424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668600" y="285840"/>
          <a:ext cx="6813360" cy="31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85840"/>
                    <a:ext cx="681336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98480" y="3579840"/>
          <a:ext cx="6813720" cy="2502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579840"/>
                    <a:ext cx="681372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560600" y="941400"/>
          <a:ext cx="681336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941400"/>
                    <a:ext cx="68133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30360" y="112680"/>
          <a:ext cx="6813720" cy="435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530360" y="4422600"/>
          <a:ext cx="6813720" cy="1857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422600"/>
                    <a:ext cx="681372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600200" y="2779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668600" y="4152960"/>
          <a:ext cx="681336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15296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00200" y="195120"/>
          <a:ext cx="679284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792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79680" y="3219480"/>
          <a:ext cx="6794280" cy="3443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79680" y="3219480"/>
                    <a:ext cx="67942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600200" y="2268360"/>
          <a:ext cx="6811920" cy="12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268360"/>
                    <a:ext cx="681192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27480" y="52704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811680" y="1273320"/>
            <a:ext cx="191268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630440" y="2351160"/>
          <a:ext cx="6811920" cy="3217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235116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668600" y="692280"/>
          <a:ext cx="681336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92280"/>
                    <a:ext cx="6813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290680" y="1522440"/>
            <a:ext cx="5694480" cy="39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668600" y="360360"/>
          <a:ext cx="681336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360360"/>
                    <a:ext cx="68133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738440" y="4091040"/>
          <a:ext cx="68119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409104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668600" y="776160"/>
          <a:ext cx="6813360" cy="514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776160"/>
                    <a:ext cx="681336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49560" y="277920"/>
            <a:ext cx="191304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530360" y="858960"/>
          <a:ext cx="6813720" cy="514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858960"/>
                    <a:ext cx="6813720" cy="51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461960" y="468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468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00200" y="4379760"/>
          <a:ext cx="6811920" cy="1287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379760"/>
                    <a:ext cx="681192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630440" y="102384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02384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69848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560600" y="941400"/>
          <a:ext cx="681336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941400"/>
                    <a:ext cx="68133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925640" y="444600"/>
          <a:ext cx="6792840" cy="549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444600"/>
                    <a:ext cx="67928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738440" y="444600"/>
          <a:ext cx="681192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444600"/>
                    <a:ext cx="681192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698480" y="4152960"/>
          <a:ext cx="68137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4152960"/>
                    <a:ext cx="68137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698480" y="1522440"/>
          <a:ext cx="68137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52244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019400" y="360360"/>
            <a:ext cx="191160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254240" y="1108080"/>
          <a:ext cx="7399080" cy="2401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4240" y="1108080"/>
                    <a:ext cx="7399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560600" y="2600280"/>
          <a:ext cx="6813360" cy="2146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60600" y="2600280"/>
                    <a:ext cx="6813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461960" y="4900680"/>
          <a:ext cx="7456680" cy="1098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61960" y="4900680"/>
                    <a:ext cx="74566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370160" y="412920"/>
          <a:ext cx="7773840" cy="185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0160" y="412920"/>
                    <a:ext cx="7773840" cy="18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560600" y="1440000"/>
          <a:ext cx="6813360" cy="4289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1440000"/>
                    <a:ext cx="68133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185840" y="461880"/>
          <a:ext cx="7707240" cy="470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5840" y="461880"/>
                    <a:ext cx="770724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217520" y="3726000"/>
          <a:ext cx="7847280" cy="2273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7520" y="3726000"/>
                    <a:ext cx="784728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392120" y="858960"/>
          <a:ext cx="7570800" cy="49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858960"/>
                    <a:ext cx="75708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07920" y="858960"/>
          <a:ext cx="8104320" cy="496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7920" y="858960"/>
                    <a:ext cx="810432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236600" y="339840"/>
          <a:ext cx="7723080" cy="275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6600" y="339840"/>
                    <a:ext cx="77230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92200" y="1957320"/>
          <a:ext cx="6811920" cy="4291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2200" y="1957320"/>
                    <a:ext cx="681192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254240" y="277920"/>
          <a:ext cx="7669080" cy="39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66908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530360" y="4102200"/>
          <a:ext cx="6813720" cy="2146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102200"/>
                    <a:ext cx="6813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511280" y="692280"/>
          <a:ext cx="6792840" cy="481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692280"/>
                    <a:ext cx="67928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30360" y="527040"/>
          <a:ext cx="726768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527040"/>
                    <a:ext cx="726768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600200" y="360360"/>
          <a:ext cx="7175520" cy="1849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717552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98480" y="1273320"/>
          <a:ext cx="6813720" cy="1609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1273320"/>
                    <a:ext cx="6813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600200" y="3087720"/>
          <a:ext cx="7286760" cy="2994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3087720"/>
                    <a:ext cx="72867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77760" y="609480"/>
          <a:ext cx="7990200" cy="526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609480"/>
                    <a:ext cx="799020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116000" y="932040"/>
          <a:ext cx="7740720" cy="548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932040"/>
                    <a:ext cx="774072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254240" y="444600"/>
          <a:ext cx="7754760" cy="487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444600"/>
                    <a:ext cx="7754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461960" y="4414680"/>
          <a:ext cx="7464600" cy="1998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4414680"/>
                    <a:ext cx="746460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530360" y="360360"/>
          <a:ext cx="7326360" cy="552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732636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98480" y="5138640"/>
          <a:ext cx="6813720" cy="86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5138640"/>
                    <a:ext cx="6813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95280" y="611280"/>
          <a:ext cx="7769520" cy="505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11280"/>
                    <a:ext cx="776952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257480" y="608040"/>
          <a:ext cx="7740360" cy="55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608040"/>
                    <a:ext cx="774036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392120" y="814320"/>
          <a:ext cx="7413840" cy="559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814320"/>
                    <a:ext cx="741384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054080" y="1936800"/>
          <a:ext cx="8089920" cy="3184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4080" y="1936800"/>
                    <a:ext cx="808992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71480" y="527040"/>
          <a:ext cx="697896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527040"/>
                    <a:ext cx="697896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89040" y="1771560"/>
          <a:ext cx="6991560" cy="257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9040" y="1771560"/>
                    <a:ext cx="69915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9:44Z</dcterms:modified>
  <cp:revision>72</cp:revision>
  <dc:subject/>
  <dc:title>幻灯片 1</dc:title>
</cp:coreProperties>
</file>