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83.png" ContentType="image/png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53.wmf" ContentType="image/x-wmf"/>
  <Override PartName="/ppt/media/image13.png" ContentType="image/png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32.wmf" ContentType="image/x-wmf"/>
  <Override PartName="/ppt/media/image75.png" ContentType="image/png"/>
  <Override PartName="/ppt/media/image2.wmf" ContentType="image/x-wmf"/>
  <Override PartName="/ppt/media/image14.wmf" ContentType="image/x-wmf"/>
  <Override PartName="/ppt/media/image69.wmf" ContentType="image/x-wmf"/>
  <Override PartName="/ppt/media/image71.png" ContentType="image/png"/>
  <Override PartName="/ppt/media/image70.wmf" ContentType="image/x-wmf"/>
  <Override PartName="/ppt/media/image114.wmf" ContentType="image/x-wmf"/>
  <Override PartName="/ppt/media/image72.wmf" ContentType="image/x-wmf"/>
  <Override PartName="/ppt/media/image116.wmf" ContentType="image/x-wmf"/>
  <Override PartName="/ppt/media/image73.wmf" ContentType="image/x-wmf"/>
  <Override PartName="/ppt/media/image74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50.wmf" ContentType="image/x-wmf"/>
  <Override PartName="/ppt/media/image88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96.wmf" ContentType="image/x-wmf"/>
  <Override PartName="/ppt/media/image103.wmf" ContentType="image/x-wmf"/>
  <Override PartName="/ppt/media/image95.wmf" ContentType="image/x-wmf"/>
  <Override PartName="/ppt/media/image102.wmf" ContentType="image/x-wmf"/>
  <Override PartName="/ppt/media/image115.wmf" ContentType="image/x-wmf"/>
  <Override PartName="/ppt/media/image113.wmf" ContentType="image/x-wmf"/>
  <Override PartName="/ppt/media/image79.wmf" ContentType="image/x-wmf"/>
  <Override PartName="/ppt/media/image101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12.wmf" ContentType="image/x-wmf"/>
  <Override PartName="/ppt/media/image111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7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20.wmf" ContentType="image/x-wmf"/>
  <Override PartName="/ppt/media/image57.wmf" ContentType="image/x-wmf"/>
  <Override PartName="/ppt/media/image1.jpeg" ContentType="image/jpeg"/>
  <Override PartName="/ppt/media/image89.wmf" ContentType="image/x-wmf"/>
  <Override PartName="/ppt/media/image27.wmf" ContentType="image/x-wmf"/>
  <Override PartName="/ppt/media/image92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68.png" ContentType="image/png"/>
  <Override PartName="/ppt/media/image9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0FA9-E5F6-471B-9615-7FA27692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0CE3-DC5A-49C0-A9E7-DFA9648D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AC6B-612B-4A19-9B04-2D6AF097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A357-E62A-4012-9F08-F27987FC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7116-C37E-4457-9473-85720A9B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9116-3493-4279-978B-159AFA4B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C672-CB24-4A43-AB08-CEA7173B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7384-019F-447B-8894-F951B9D5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3A9B-D0C2-40BF-BC48-36F0DF04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6E3E-93EC-4A95-8E0F-0C8B9315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5DE5-3BE9-4269-B6C4-590BB91F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C320-9C8E-4D2C-A4C0-377C7F6D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5785-0607-4788-AC95-F92E3E9593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1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7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1.wmf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3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5.wmf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69.wmf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0.wmf"/><Relationship Id="rId4" Type="http://schemas.openxmlformats.org/officeDocument/2006/relationships/image" Target="../media/image71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72.wmf"/><Relationship Id="rId7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3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4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5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76.wmf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7.wmf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9.wmf"/><Relationship Id="rId6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81.wmf"/><Relationship Id="rId6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2.wmf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3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84.wmf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86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87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88.wmf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9.wmf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1.wmf"/><Relationship Id="rId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2.wmf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3.wmf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4.wmf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6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97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8.wmf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9.wmf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0.wmf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1.wmf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2.wmf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3.wmf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4.wmf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6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07.wmf"/><Relationship Id="rId8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8.wmf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0.wmf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1.wmf"/><Relationship Id="rId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13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14.wmf"/><Relationship Id="rId8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5.wmf"/><Relationship Id="rId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17.wmf"/><Relationship Id="rId6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78560" y="1870200"/>
            <a:ext cx="194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301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第四单元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768320" y="2268360"/>
          <a:ext cx="6812280" cy="1857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8320" y="2268360"/>
                    <a:ext cx="68122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925640" y="277920"/>
          <a:ext cx="6792840" cy="5000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277920"/>
                    <a:ext cx="6792840" cy="50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876320" y="5210280"/>
          <a:ext cx="6811920" cy="1287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76320" y="5210280"/>
                    <a:ext cx="681192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97320" y="360360"/>
            <a:ext cx="2901960" cy="70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1560600" y="1089000"/>
          <a:ext cx="6813360" cy="5076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0600" y="1089000"/>
                    <a:ext cx="681336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768320" y="776160"/>
          <a:ext cx="6812280" cy="2573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8320" y="776160"/>
                    <a:ext cx="6812280" cy="25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738440" y="3346560"/>
          <a:ext cx="6811920" cy="25747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38440" y="3346560"/>
                    <a:ext cx="681192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600200" y="277920"/>
          <a:ext cx="6811920" cy="4359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77920"/>
                    <a:ext cx="681192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668600" y="4483080"/>
          <a:ext cx="6813360" cy="19303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4483080"/>
                    <a:ext cx="681336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530360" y="527040"/>
          <a:ext cx="681372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527040"/>
                    <a:ext cx="681372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630440" y="1355760"/>
          <a:ext cx="6811920" cy="38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1355760"/>
                    <a:ext cx="681192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461960" y="941400"/>
          <a:ext cx="6811920" cy="4359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61960" y="941400"/>
                    <a:ext cx="681192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560600" y="1854360"/>
          <a:ext cx="6813360" cy="2574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1854360"/>
                    <a:ext cx="681336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560600" y="609480"/>
          <a:ext cx="681336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609480"/>
                    <a:ext cx="681336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511280" y="2600280"/>
          <a:ext cx="6792840" cy="1428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1280" y="2600280"/>
                    <a:ext cx="679284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600200" y="444600"/>
          <a:ext cx="6811920" cy="2501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444600"/>
                    <a:ext cx="681192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668600" y="3176640"/>
          <a:ext cx="6813360" cy="2573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3176640"/>
                    <a:ext cx="6813360" cy="25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600200" y="527040"/>
          <a:ext cx="6811920" cy="531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527040"/>
                    <a:ext cx="6811920" cy="53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630440" y="1854360"/>
          <a:ext cx="6811920" cy="2574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1854360"/>
                    <a:ext cx="681192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560600" y="692280"/>
          <a:ext cx="681336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692280"/>
                    <a:ext cx="681336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738440" y="1108080"/>
          <a:ext cx="6811920" cy="1928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1108080"/>
                    <a:ext cx="681192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698480" y="3176640"/>
          <a:ext cx="6813720" cy="2573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8480" y="3176640"/>
                    <a:ext cx="6813720" cy="25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560600" y="527040"/>
          <a:ext cx="6813360" cy="5076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527040"/>
                    <a:ext cx="681336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600200" y="277920"/>
          <a:ext cx="6811920" cy="4359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77920"/>
                    <a:ext cx="681192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738440" y="4711680"/>
          <a:ext cx="6811920" cy="1287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38440" y="4711680"/>
                    <a:ext cx="681192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560600" y="1190520"/>
          <a:ext cx="6813360" cy="38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1190520"/>
                    <a:ext cx="681336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560600" y="609480"/>
          <a:ext cx="681336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609480"/>
                    <a:ext cx="681336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600200" y="360360"/>
          <a:ext cx="6811920" cy="3218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360360"/>
                    <a:ext cx="6811920" cy="32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60600" y="3508200"/>
          <a:ext cx="6813360" cy="25736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0600" y="3508200"/>
                    <a:ext cx="6813360" cy="25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806480" y="609480"/>
          <a:ext cx="6794640" cy="5308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6480" y="609480"/>
                    <a:ext cx="679464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560600" y="609480"/>
          <a:ext cx="6813360" cy="5004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609480"/>
                    <a:ext cx="681336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768320" y="1854360"/>
          <a:ext cx="6812280" cy="2574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8320" y="1854360"/>
                    <a:ext cx="681228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560600" y="277920"/>
          <a:ext cx="6813360" cy="450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277920"/>
                    <a:ext cx="6813360" cy="45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530360" y="4878360"/>
          <a:ext cx="6813720" cy="1287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30360" y="4878360"/>
                    <a:ext cx="681372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579680" y="609480"/>
          <a:ext cx="6794280" cy="5268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79680" y="609480"/>
                    <a:ext cx="679428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698480" y="1604880"/>
          <a:ext cx="6813720" cy="3218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1604880"/>
                    <a:ext cx="6813720" cy="32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579680" y="609480"/>
          <a:ext cx="6794280" cy="515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79680" y="609480"/>
                    <a:ext cx="679428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698480" y="360360"/>
          <a:ext cx="6813720" cy="2575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360360"/>
                    <a:ext cx="681372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649520" y="3181320"/>
          <a:ext cx="6792840" cy="2575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9520" y="3181320"/>
                    <a:ext cx="679284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668600" y="527040"/>
          <a:ext cx="6794280" cy="515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527040"/>
                    <a:ext cx="679428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668600" y="449280"/>
          <a:ext cx="6813360" cy="3144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449280"/>
                    <a:ext cx="681336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768320" y="3098880"/>
          <a:ext cx="6812280" cy="2573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68320" y="3098880"/>
                    <a:ext cx="6812280" cy="25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600200" y="360360"/>
          <a:ext cx="6811920" cy="38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360360"/>
                    <a:ext cx="681192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668600" y="4257720"/>
          <a:ext cx="6813360" cy="19303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4257720"/>
                    <a:ext cx="681336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738440" y="1355760"/>
          <a:ext cx="6792840" cy="38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1355760"/>
                    <a:ext cx="679284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600200" y="444600"/>
          <a:ext cx="6792840" cy="5402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444600"/>
                    <a:ext cx="6792840" cy="54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698480" y="1023840"/>
          <a:ext cx="6813720" cy="450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1023840"/>
                    <a:ext cx="681372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560600" y="609480"/>
          <a:ext cx="681336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609480"/>
                    <a:ext cx="681336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630440" y="609480"/>
          <a:ext cx="681192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609480"/>
                    <a:ext cx="681192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1630440" y="1522440"/>
          <a:ext cx="6811920" cy="3217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1522440"/>
                    <a:ext cx="681192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560600" y="609480"/>
          <a:ext cx="681336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609480"/>
                    <a:ext cx="681336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492200" y="858960"/>
          <a:ext cx="6811920" cy="450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2200" y="858960"/>
                    <a:ext cx="6811920" cy="45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787400" y="527040"/>
          <a:ext cx="679320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7400" y="527040"/>
                    <a:ext cx="679320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1530360" y="277920"/>
          <a:ext cx="6813720" cy="450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277920"/>
                    <a:ext cx="6813720" cy="45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530360" y="4649760"/>
          <a:ext cx="6813720" cy="19303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30360" y="4649760"/>
                    <a:ext cx="681372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600200" y="195120"/>
          <a:ext cx="6811920" cy="450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95120"/>
                    <a:ext cx="681192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1698480" y="4567320"/>
          <a:ext cx="6813720" cy="19303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8480" y="4567320"/>
                    <a:ext cx="681372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836720" y="1687680"/>
          <a:ext cx="6813720" cy="3217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6720" y="1687680"/>
                    <a:ext cx="681372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530360" y="360360"/>
          <a:ext cx="6813720" cy="38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360360"/>
                    <a:ext cx="681372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530360" y="4152960"/>
          <a:ext cx="6813720" cy="1928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30360" y="4152960"/>
                    <a:ext cx="681372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1630440" y="2103480"/>
          <a:ext cx="6811920" cy="1928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2103480"/>
                    <a:ext cx="681192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465360" y="195120"/>
            <a:ext cx="2907000" cy="701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949560" y="941400"/>
            <a:ext cx="1913040" cy="43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1630440" y="1771560"/>
          <a:ext cx="6811920" cy="3861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30440" y="1771560"/>
                    <a:ext cx="6811920" cy="38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738440" y="195120"/>
          <a:ext cx="6811920" cy="642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195120"/>
                    <a:ext cx="68119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2913120" y="941400"/>
            <a:ext cx="4120920" cy="208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"/>
          <p:cNvGraphicFramePr/>
          <p:nvPr/>
        </p:nvGraphicFramePr>
        <p:xfrm>
          <a:off x="1600200" y="3030480"/>
          <a:ext cx="6811920" cy="3218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3030480"/>
                    <a:ext cx="6811920" cy="32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1668600" y="1023840"/>
          <a:ext cx="6813360" cy="450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1023840"/>
                    <a:ext cx="681336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1560600" y="1522440"/>
          <a:ext cx="6813360" cy="3217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1522440"/>
                    <a:ext cx="681336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157640" y="776160"/>
            <a:ext cx="1911240" cy="435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1461960" y="1854360"/>
          <a:ext cx="6811920" cy="314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1960" y="1854360"/>
                    <a:ext cx="681192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1630440" y="1522440"/>
          <a:ext cx="6811920" cy="3217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1522440"/>
                    <a:ext cx="681192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1530360" y="277920"/>
          <a:ext cx="6813720" cy="314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277920"/>
                    <a:ext cx="681372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530360" y="3346560"/>
          <a:ext cx="6813720" cy="642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30360" y="3346560"/>
                    <a:ext cx="68137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2290680" y="3895560"/>
          <a:ext cx="5937120" cy="2185920"/>
        </p:xfrm>
        <a:graphic>
          <a:graphicData uri="http://schemas.openxmlformats.org/drawingml/2006/table">
            <a:tbl>
              <a:tblPr/>
              <a:tblGrid>
                <a:gridCol w="850680"/>
                <a:gridCol w="2543400"/>
                <a:gridCol w="2543040"/>
              </a:tblGrid>
              <a:tr h="497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其他人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苏　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张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头脑简单，糊涂谋反，事情败露，立即叛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认识清醒，高瞻远瞩，欲以死息祸；面对劝降，始终保持气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2290680" y="1604880"/>
          <a:ext cx="5937480" cy="3177720"/>
        </p:xfrm>
        <a:graphic>
          <a:graphicData uri="http://schemas.openxmlformats.org/drawingml/2006/table">
            <a:tbl>
              <a:tblPr/>
              <a:tblGrid>
                <a:gridCol w="851040"/>
                <a:gridCol w="2543400"/>
                <a:gridCol w="2543040"/>
              </a:tblGrid>
              <a:tr h="188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卫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阴险狡诈，卖国求荣，气焰嚣张，不可一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为国效命，忠贞不二，不卑不亢，光明磊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李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意志不坚，因私叛国，痛苦羞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忠贞不渝，心系祖国，无怨无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925640" y="692280"/>
          <a:ext cx="6792840" cy="5308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692280"/>
                    <a:ext cx="679284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1630440" y="112680"/>
          <a:ext cx="6811920" cy="3789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112680"/>
                    <a:ext cx="681192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600200" y="3759120"/>
          <a:ext cx="6811920" cy="2575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3759120"/>
                    <a:ext cx="681192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1717560" y="609480"/>
          <a:ext cx="679464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7560" y="609480"/>
                    <a:ext cx="679464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019400" y="360360"/>
            <a:ext cx="1911600" cy="43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1560600" y="1128600"/>
          <a:ext cx="6813360" cy="4538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0600" y="1128600"/>
                    <a:ext cx="6813360" cy="45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474920" y="195120"/>
          <a:ext cx="7451640" cy="1106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4920" y="195120"/>
                    <a:ext cx="745164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560600" y="1190520"/>
          <a:ext cx="6813360" cy="2681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0600" y="1190520"/>
                    <a:ext cx="6813360" cy="26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530360" y="4000680"/>
          <a:ext cx="7353360" cy="13348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30360" y="4000680"/>
                    <a:ext cx="735336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68600" y="5092560"/>
          <a:ext cx="6813360" cy="9064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68600" y="5092560"/>
                    <a:ext cx="681336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1484280" y="527040"/>
          <a:ext cx="7234200" cy="544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84280" y="527040"/>
                    <a:ext cx="7234200" cy="54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1600200" y="112680"/>
          <a:ext cx="7083360" cy="4005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12680"/>
                    <a:ext cx="708336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1133640" y="4156200"/>
          <a:ext cx="7931160" cy="20923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33640" y="4156200"/>
                    <a:ext cx="7931160" cy="20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1461960" y="541440"/>
          <a:ext cx="7426440" cy="5457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61960" y="541440"/>
                    <a:ext cx="7426440" cy="54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1461960" y="360360"/>
          <a:ext cx="7293240" cy="5618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61960" y="360360"/>
                    <a:ext cx="7293240" cy="56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392120" y="512640"/>
          <a:ext cx="7516800" cy="5569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92120" y="512640"/>
                    <a:ext cx="7516800" cy="556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1254240" y="277920"/>
          <a:ext cx="7518240" cy="950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4240" y="277920"/>
                    <a:ext cx="751824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461960" y="1273320"/>
          <a:ext cx="6811920" cy="1609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61960" y="1273320"/>
                    <a:ext cx="681192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395360" y="2898720"/>
          <a:ext cx="6958080" cy="28512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95360" y="2898720"/>
                    <a:ext cx="695808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906560" y="609480"/>
          <a:ext cx="681192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6560" y="609480"/>
                    <a:ext cx="681192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1392120" y="360360"/>
          <a:ext cx="7497720" cy="544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92120" y="360360"/>
                    <a:ext cx="7497720" cy="54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449360" y="360360"/>
          <a:ext cx="7201080" cy="5576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9360" y="360360"/>
                    <a:ext cx="7201080" cy="55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1386000" y="444600"/>
          <a:ext cx="7194600" cy="5449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86000" y="444600"/>
                    <a:ext cx="7194600" cy="54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343160" y="444600"/>
          <a:ext cx="7307280" cy="5449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3160" y="444600"/>
                    <a:ext cx="7307280" cy="54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1492200" y="385920"/>
          <a:ext cx="6811920" cy="5364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2200" y="385920"/>
                    <a:ext cx="6811920" cy="53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1560600" y="444600"/>
          <a:ext cx="6813360" cy="5489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444600"/>
                    <a:ext cx="6813360" cy="54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1530360" y="552600"/>
          <a:ext cx="7254720" cy="5364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552600"/>
                    <a:ext cx="7254720" cy="53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1254240" y="277920"/>
          <a:ext cx="7767360" cy="2014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4240" y="277920"/>
                    <a:ext cx="776736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392120" y="2019240"/>
          <a:ext cx="6813720" cy="21463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92120" y="2019240"/>
                    <a:ext cx="681372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185840" y="4175280"/>
          <a:ext cx="7740720" cy="1935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5840" y="4175280"/>
                    <a:ext cx="7740720" cy="19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1324080" y="493560"/>
          <a:ext cx="7548480" cy="5672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24080" y="493560"/>
                    <a:ext cx="754848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1530360" y="527040"/>
          <a:ext cx="6813720" cy="5446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527040"/>
                    <a:ext cx="6813720" cy="54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787400" y="596880"/>
          <a:ext cx="6793200" cy="5402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7400" y="596880"/>
                    <a:ext cx="6793200" cy="54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492200" y="527040"/>
          <a:ext cx="6811920" cy="5446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2200" y="527040"/>
                    <a:ext cx="6811920" cy="54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1274760" y="527040"/>
          <a:ext cx="7443720" cy="5465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74760" y="527040"/>
                    <a:ext cx="7443720" cy="54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1263600" y="195120"/>
          <a:ext cx="7880400" cy="1849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3600" y="195120"/>
                    <a:ext cx="7880400" cy="18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392120" y="1986120"/>
          <a:ext cx="6813720" cy="160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92120" y="1986120"/>
                    <a:ext cx="681372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392120" y="3398760"/>
          <a:ext cx="6813720" cy="28497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92120" y="3398760"/>
                    <a:ext cx="6813720" cy="28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1420920" y="527040"/>
          <a:ext cx="7091280" cy="5489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0920" y="527040"/>
                    <a:ext cx="7091280" cy="54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1392120" y="360360"/>
          <a:ext cx="7512120" cy="5610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92120" y="360360"/>
                    <a:ext cx="7512120" cy="56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1560600" y="5008680"/>
          <a:ext cx="6813360" cy="907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0600" y="5008680"/>
                    <a:ext cx="681336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1389240" y="1355760"/>
          <a:ext cx="7399080" cy="371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89240" y="1355760"/>
                    <a:ext cx="73990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787400" y="527040"/>
          <a:ext cx="679320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7400" y="527040"/>
                    <a:ext cx="679320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7T02:57:07Z</dcterms:created>
  <dc:creator>微软用户</dc:creator>
  <dc:description/>
  <dc:language>en-US</dc:language>
  <cp:lastModifiedBy>Microsoft</cp:lastModifiedBy>
  <dcterms:modified xsi:type="dcterms:W3CDTF">2019-02-18T12:39:33Z</dcterms:modified>
  <cp:revision>72</cp:revision>
  <dc:subject/>
  <dc:title>幻灯片 1</dc:title>
</cp:coreProperties>
</file>