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7.xml.rels" ContentType="application/vnd.openxmlformats-package.relationships+xml"/>
  <Override PartName="/ppt/notesSlides/notesSlide107.xml" ContentType="application/vnd.openxmlformats-officedocument.presentationml.notesSlide+xml"/>
  <Override PartName="/ppt/_rels/presentation.xml.rels" ContentType="application/vnd.openxmlformats-package.relationships+xml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1.wmf" ContentType="image/x-wmf"/>
  <Override PartName="/ppt/media/image109.png" ContentType="image/png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126.png" ContentType="image/png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108.png" ContentType="image/png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37.wmf" ContentType="image/x-wmf"/>
  <Override PartName="/ppt/media/image38.wmf" ContentType="image/x-wmf"/>
  <Override PartName="/ppt/media/image128.wmf" ContentType="image/x-wmf"/>
  <Override PartName="/ppt/media/image31.wmf" ContentType="image/x-wmf"/>
  <Override PartName="/ppt/media/image9.wmf" ContentType="image/x-wmf"/>
  <Override PartName="/ppt/media/image39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42.wmf" ContentType="image/x-wmf"/>
  <Override PartName="/ppt/media/image139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53.wmf" ContentType="image/x-wmf"/>
  <Override PartName="/ppt/media/image176.wmf" ContentType="image/x-wmf"/>
  <Override PartName="/ppt/media/image153.wmf" ContentType="image/x-wmf"/>
  <Override PartName="/ppt/media/image142.wmf" ContentType="image/x-wmf"/>
  <Override PartName="/ppt/media/image43.wmf" ContentType="image/x-wmf"/>
  <Override PartName="/ppt/media/image166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43.wmf" ContentType="image/x-wmf"/>
  <Override PartName="/ppt/media/image152.wmf" ContentType="image/x-wmf"/>
  <Override PartName="/ppt/media/image150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54.wmf" ContentType="image/x-wmf"/>
  <Override PartName="/ppt/media/image177.wmf" ContentType="image/x-wmf"/>
  <Override PartName="/ppt/media/image140.wmf" ContentType="image/x-wmf"/>
  <Override PartName="/ppt/media/image89.wmf" ContentType="image/x-wmf"/>
  <Override PartName="/ppt/media/image118.png" ContentType="image/png"/>
  <Override PartName="/ppt/media/image136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12.png" ContentType="image/png"/>
  <Override PartName="/ppt/media/image15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33.wmf" ContentType="image/x-wmf"/>
  <Override PartName="/ppt/media/image3.wmf" ContentType="image/x-wmf"/>
  <Override PartName="/ppt/media/image155.wmf" ContentType="image/x-wmf"/>
  <Override PartName="/ppt/media/image80.wmf" ContentType="image/x-wmf"/>
  <Override PartName="/ppt/media/image12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156.wmf" ContentType="image/x-wmf"/>
  <Override PartName="/ppt/media/image1.jpeg" ContentType="image/jpeg"/>
  <Override PartName="/ppt/media/image165.wmf" ContentType="image/x-wmf"/>
  <Override PartName="/ppt/media/image56.wmf" ContentType="image/x-wmf"/>
  <Override PartName="/ppt/media/image16.png" ContentType="image/png"/>
  <Override PartName="/ppt/media/image151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3.wmf" ContentType="image/x-wmf"/>
  <Override PartName="/ppt/media/image6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C619-1A6C-46B5-9AC0-064E6413D4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7240" y="685800"/>
            <a:ext cx="548352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1C0-DB2F-400D-9F6A-CD130B4B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7F8-7463-4298-9CB2-7B2490BD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67A-27E5-4BDD-8C4B-958728B8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F39-873C-4AF4-808F-ABAF0C6A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56F-D678-4F78-9E11-EB9408C5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BDD-4BD3-4B9E-928F-106382AA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748-9ED1-4491-BA80-930D4DA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2DB-2C6A-4C03-8996-FDA59BB4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A77-CB4B-48A6-B37E-40999A52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BD0-5525-452B-A1B9-2A31389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502-E1E3-44CA-B661-379E621E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53F-2B1B-4106-8546-665EBA5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095C-F1A3-40FE-9BC7-B24CAF701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0.wmf"/><Relationship Id="rId8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2.wmf"/><Relationship Id="rId6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3.wmf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5.wmf"/><Relationship Id="rId6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6.wmf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8.wmf"/><Relationship Id="rId6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0.wmf"/><Relationship Id="rId6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2.wmf"/><Relationship Id="rId4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6.wmf"/><Relationship Id="rId6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7.wmf"/><Relationship Id="rId4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8.wmf"/><Relationship Id="rId4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0.wmf"/><Relationship Id="rId6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2.wmf"/><Relationship Id="rId6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4.wmf"/><Relationship Id="rId6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5.wmf"/><Relationship Id="rId4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7.wmf"/><Relationship Id="rId6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5.wm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6.wmf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9.wmf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1.wmf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3.wmf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4.wm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8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2.wmf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5.wmf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7.wmf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10.wmf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1.wmf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5.wmf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6.wmf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9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20.wmf"/><Relationship Id="rId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1.wmf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3.wmf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5.wmf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27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28.wmf"/><Relationship Id="rId7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9.wmf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1.wmf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3.wmf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5.wmf"/><Relationship Id="rId6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7.wmf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9.wmf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0.wmf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1.wmf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3.wmf"/><Relationship Id="rId6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5.wmf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78560" y="1870200"/>
            <a:ext cx="19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四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87400" y="609480"/>
          <a:ext cx="679320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668600" y="195120"/>
          <a:ext cx="6813360" cy="214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1324080" y="2103480"/>
          <a:ext cx="7648560" cy="3989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24080" y="2103480"/>
                    <a:ext cx="764856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392120" y="4857840"/>
          <a:ext cx="7497720" cy="1722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2120" y="4857840"/>
                    <a:ext cx="749772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254240" y="277920"/>
          <a:ext cx="7735680" cy="529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77920"/>
                    <a:ext cx="7735680" cy="52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1668600" y="5003640"/>
          <a:ext cx="7466040" cy="884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5003640"/>
                    <a:ext cx="746604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192320" y="527040"/>
          <a:ext cx="7951680" cy="544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2320" y="527040"/>
                    <a:ext cx="795168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116000" y="195120"/>
          <a:ext cx="7813800" cy="500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95120"/>
                    <a:ext cx="78138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184400" y="4762440"/>
          <a:ext cx="7812000" cy="1982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4400" y="4762440"/>
                    <a:ext cx="781200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1046160" y="444600"/>
          <a:ext cx="7893000" cy="552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444600"/>
                    <a:ext cx="7893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1600200" y="195120"/>
          <a:ext cx="6811920" cy="371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5120"/>
                    <a:ext cx="68119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392120" y="4175280"/>
          <a:ext cx="7445520" cy="2195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2120" y="4175280"/>
                    <a:ext cx="744552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324080" y="277920"/>
          <a:ext cx="7594560" cy="4992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277920"/>
                    <a:ext cx="759456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392120" y="5046840"/>
          <a:ext cx="6978600" cy="1201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2120" y="5046840"/>
                    <a:ext cx="69786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1254240" y="277920"/>
          <a:ext cx="7754760" cy="548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77920"/>
                    <a:ext cx="775476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254240" y="360360"/>
          <a:ext cx="7788240" cy="561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360360"/>
                    <a:ext cx="77882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770040" y="112680"/>
          <a:ext cx="8281800" cy="297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0040" y="112680"/>
                    <a:ext cx="828180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1041480" y="2792520"/>
          <a:ext cx="8102520" cy="4035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1480" y="2792520"/>
                    <a:ext cx="81025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668600" y="1273320"/>
          <a:ext cx="680400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273320"/>
                    <a:ext cx="680400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116000" y="351000"/>
          <a:ext cx="7834320" cy="4984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51000"/>
                    <a:ext cx="78343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185840" y="5092560"/>
          <a:ext cx="6811920" cy="906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5840" y="5092560"/>
                    <a:ext cx="68119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316160" y="692280"/>
          <a:ext cx="7886520" cy="5032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6160" y="692280"/>
                    <a:ext cx="788652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324080" y="360360"/>
          <a:ext cx="7648560" cy="557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360360"/>
                    <a:ext cx="764856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254240" y="277920"/>
          <a:ext cx="7721640" cy="499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77920"/>
                    <a:ext cx="772164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270080" y="4175280"/>
          <a:ext cx="7656480" cy="2155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4175280"/>
                    <a:ext cx="765648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1668600" y="444600"/>
          <a:ext cx="6813360" cy="160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133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254240" y="2103480"/>
          <a:ext cx="7794360" cy="3956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4240" y="2103480"/>
                    <a:ext cx="779436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977760" y="195120"/>
          <a:ext cx="7952040" cy="4353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195120"/>
                    <a:ext cx="795204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1185840" y="3933720"/>
          <a:ext cx="7728120" cy="2314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5840" y="3933720"/>
                    <a:ext cx="772812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204920" y="363600"/>
          <a:ext cx="7853400" cy="561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4920" y="363600"/>
                    <a:ext cx="78534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1116000" y="941400"/>
          <a:ext cx="7866000" cy="275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941400"/>
                    <a:ext cx="7866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1530360" y="3346560"/>
          <a:ext cx="6813720" cy="2146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3346560"/>
                    <a:ext cx="68137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1343160" y="1355760"/>
          <a:ext cx="7583400" cy="323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1355760"/>
                    <a:ext cx="7583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855800" y="609480"/>
          <a:ext cx="6794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609480"/>
                    <a:ext cx="6794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876320" y="527040"/>
          <a:ext cx="6794640" cy="530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527040"/>
                    <a:ext cx="679464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994040" y="527040"/>
          <a:ext cx="6794280" cy="515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527040"/>
                    <a:ext cx="679428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925640" y="527040"/>
          <a:ext cx="67928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527040"/>
                    <a:ext cx="67928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11680" y="527040"/>
            <a:ext cx="2901960" cy="70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1579680" y="1508040"/>
          <a:ext cx="6794280" cy="424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9680" y="1508040"/>
                    <a:ext cx="679428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08200" y="195120"/>
          <a:ext cx="680400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195120"/>
                    <a:ext cx="6804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668600" y="2682720"/>
          <a:ext cx="6813360" cy="3789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2682720"/>
                    <a:ext cx="6813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668600" y="1023840"/>
          <a:ext cx="6813360" cy="443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023840"/>
                    <a:ext cx="681336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600200" y="19512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512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600200" y="3994200"/>
          <a:ext cx="6811920" cy="2503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994200"/>
                    <a:ext cx="681192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392120" y="2849400"/>
          <a:ext cx="6794640" cy="106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2849400"/>
                    <a:ext cx="67946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68320" y="609480"/>
          <a:ext cx="681228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609480"/>
                    <a:ext cx="681228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630440" y="1522440"/>
          <a:ext cx="68119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522440"/>
                    <a:ext cx="68119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19360" y="195120"/>
          <a:ext cx="6792840" cy="506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9360" y="195120"/>
                    <a:ext cx="679284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698480" y="5126040"/>
          <a:ext cx="68137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5126040"/>
                    <a:ext cx="6813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630440" y="6094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68600" y="195120"/>
          <a:ext cx="681336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668600" y="3925800"/>
          <a:ext cx="681336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3925800"/>
                    <a:ext cx="681336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30440" y="195120"/>
          <a:ext cx="6811920" cy="5150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95120"/>
                    <a:ext cx="6811920" cy="51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68600" y="5210280"/>
          <a:ext cx="681336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5210280"/>
                    <a:ext cx="681336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49520" y="609480"/>
          <a:ext cx="67928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9520" y="609480"/>
                    <a:ext cx="67928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698480" y="858960"/>
          <a:ext cx="681372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858960"/>
                    <a:ext cx="681372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698480" y="2019240"/>
          <a:ext cx="68137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201924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600200" y="609480"/>
          <a:ext cx="6811920" cy="507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09480"/>
                    <a:ext cx="68119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876320" y="865080"/>
          <a:ext cx="6794640" cy="513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865080"/>
                    <a:ext cx="6794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98480" y="2185920"/>
          <a:ext cx="68137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218592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698480" y="6094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6094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66880" y="609480"/>
          <a:ext cx="6813720" cy="53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6880" y="609480"/>
                    <a:ext cx="681372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38440" y="19512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9512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68320" y="3922560"/>
          <a:ext cx="681228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3922560"/>
                    <a:ext cx="681228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68600" y="360360"/>
          <a:ext cx="681336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360360"/>
                    <a:ext cx="6813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8600" y="4754520"/>
          <a:ext cx="681336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754520"/>
                    <a:ext cx="681336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1756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60600" y="360360"/>
          <a:ext cx="6813360" cy="5005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360360"/>
                    <a:ext cx="681336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00200" y="5292720"/>
          <a:ext cx="68119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529272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600200" y="444600"/>
          <a:ext cx="681192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8119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600200" y="4921200"/>
          <a:ext cx="68119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92120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600200" y="609480"/>
          <a:ext cx="6792840" cy="534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09480"/>
                    <a:ext cx="679284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600200" y="52704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2704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846440" y="858960"/>
          <a:ext cx="680400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6440" y="858960"/>
                    <a:ext cx="680400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600200" y="360360"/>
          <a:ext cx="681192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738440" y="3591000"/>
          <a:ext cx="6811920" cy="2574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359100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560600" y="1936800"/>
          <a:ext cx="681336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1936800"/>
                    <a:ext cx="681336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630440" y="127332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27332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600200" y="36036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668600" y="406872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06872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668600" y="195120"/>
          <a:ext cx="6813360" cy="128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668600" y="1444680"/>
          <a:ext cx="6794280" cy="5135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1444680"/>
                    <a:ext cx="679428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671480" y="195120"/>
          <a:ext cx="6794640" cy="442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195120"/>
                    <a:ext cx="679464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698480" y="3922560"/>
          <a:ext cx="68137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92256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738440" y="36036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36036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768320" y="4087800"/>
          <a:ext cx="681228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4087800"/>
                    <a:ext cx="681228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698480" y="776160"/>
          <a:ext cx="6813720" cy="514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776160"/>
                    <a:ext cx="681372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533600" y="608040"/>
          <a:ext cx="6794280" cy="526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608040"/>
                    <a:ext cx="6794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630440" y="2103480"/>
          <a:ext cx="681192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10348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994040" y="596880"/>
          <a:ext cx="6794280" cy="54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596880"/>
                    <a:ext cx="679428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630440" y="112680"/>
          <a:ext cx="681192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12680"/>
                    <a:ext cx="6811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668600" y="5170320"/>
          <a:ext cx="681336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5170320"/>
                    <a:ext cx="68133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00200" y="276120"/>
          <a:ext cx="6792840" cy="449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6120"/>
                    <a:ext cx="679284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30440" y="408780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408780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53036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717560" y="52704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52704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668600" y="692280"/>
          <a:ext cx="6813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692280"/>
                    <a:ext cx="6813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668600" y="444600"/>
          <a:ext cx="681336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668600" y="2533680"/>
          <a:ext cx="6813360" cy="3216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2533680"/>
                    <a:ext cx="68133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560600" y="941400"/>
          <a:ext cx="681336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941400"/>
                    <a:ext cx="6813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668600" y="112680"/>
          <a:ext cx="681336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12680"/>
                    <a:ext cx="68133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698480" y="3197160"/>
          <a:ext cx="6813720" cy="3216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197160"/>
                    <a:ext cx="681372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600200" y="112680"/>
          <a:ext cx="681192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2680"/>
                    <a:ext cx="68119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600200" y="4506840"/>
          <a:ext cx="681192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50684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600200" y="36036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630440" y="4317840"/>
          <a:ext cx="6811920" cy="1930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4317840"/>
                    <a:ext cx="6811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55800" y="609480"/>
          <a:ext cx="679464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609480"/>
                    <a:ext cx="6794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630440" y="6094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600200" y="27792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68600" y="423540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23540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787400" y="609480"/>
          <a:ext cx="6793200" cy="5364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3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668600" y="195120"/>
          <a:ext cx="681336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668600" y="4732200"/>
          <a:ext cx="6813360" cy="1930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732200"/>
                    <a:ext cx="681336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560600" y="858960"/>
          <a:ext cx="681336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858960"/>
                    <a:ext cx="681336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600200" y="112680"/>
          <a:ext cx="6811920" cy="386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2680"/>
                    <a:ext cx="681192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630440" y="392580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392580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668600" y="444600"/>
          <a:ext cx="6813360" cy="38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1336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698480" y="4317840"/>
          <a:ext cx="6813720" cy="1930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4317840"/>
                    <a:ext cx="68137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530360" y="360360"/>
          <a:ext cx="7062840" cy="45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60360"/>
                    <a:ext cx="70628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504800" y="3594240"/>
          <a:ext cx="7075800" cy="2023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4800" y="3594240"/>
                    <a:ext cx="707580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560600" y="692280"/>
          <a:ext cx="6813360" cy="50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92280"/>
                    <a:ext cx="6813360" cy="50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461960" y="277920"/>
          <a:ext cx="6811920" cy="3716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277920"/>
                    <a:ext cx="68119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461960" y="3911760"/>
          <a:ext cx="6811920" cy="2501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61960" y="3911760"/>
                    <a:ext cx="681192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76240" y="692280"/>
          <a:ext cx="6804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6240" y="692280"/>
                    <a:ext cx="6804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1668600" y="195120"/>
          <a:ext cx="6813360" cy="18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630440" y="1971720"/>
          <a:ext cx="6811920" cy="4359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1971720"/>
                    <a:ext cx="68119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630440" y="692280"/>
          <a:ext cx="681192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92280"/>
                    <a:ext cx="6811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60600" y="692280"/>
          <a:ext cx="6813360" cy="50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92280"/>
                    <a:ext cx="6813360" cy="50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600200" y="360360"/>
          <a:ext cx="6811920" cy="250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30360" y="2854440"/>
          <a:ext cx="6813720" cy="3144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2854440"/>
                    <a:ext cx="681372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533600" y="528480"/>
          <a:ext cx="6794280" cy="526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528480"/>
                    <a:ext cx="6794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530360" y="112680"/>
          <a:ext cx="68137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12680"/>
                    <a:ext cx="68137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530360" y="3112920"/>
          <a:ext cx="6813720" cy="3218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3112920"/>
                    <a:ext cx="68137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530360" y="195120"/>
          <a:ext cx="68137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95120"/>
                    <a:ext cx="6813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530360" y="4005360"/>
          <a:ext cx="6813720" cy="2574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005360"/>
                    <a:ext cx="68137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603600" y="27792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087800" y="1023840"/>
            <a:ext cx="1913040" cy="4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1600200" y="1771560"/>
          <a:ext cx="6811920" cy="3861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1771560"/>
                    <a:ext cx="681192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530360" y="692280"/>
          <a:ext cx="68137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692280"/>
                    <a:ext cx="6813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982960" y="1687680"/>
            <a:ext cx="4216320" cy="261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542960" y="527040"/>
          <a:ext cx="7037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2960" y="527040"/>
                    <a:ext cx="7037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06480" y="692280"/>
          <a:ext cx="6794640" cy="515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692280"/>
                    <a:ext cx="679464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738440" y="360360"/>
          <a:ext cx="68119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360360"/>
                    <a:ext cx="68119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768320" y="2136600"/>
          <a:ext cx="6812280" cy="386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2136600"/>
                    <a:ext cx="68122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836720" y="6922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6922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1776240" y="1854360"/>
          <a:ext cx="680436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6240" y="1854360"/>
                    <a:ext cx="680436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019400" y="277920"/>
            <a:ext cx="191160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1530360" y="858960"/>
          <a:ext cx="6813720" cy="2501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0360" y="858960"/>
                    <a:ext cx="681372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492200" y="3424320"/>
          <a:ext cx="6811920" cy="2574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342432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600200" y="608040"/>
          <a:ext cx="67928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08040"/>
                    <a:ext cx="67928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530360" y="277920"/>
          <a:ext cx="68137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77920"/>
                    <a:ext cx="68137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30360" y="4087800"/>
          <a:ext cx="68137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08780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738440" y="276120"/>
          <a:ext cx="6792840" cy="320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276120"/>
                    <a:ext cx="6792840" cy="32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717560" y="3013200"/>
          <a:ext cx="6794640" cy="3484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7560" y="3013200"/>
                    <a:ext cx="67946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157640" y="195120"/>
            <a:ext cx="1911240" cy="43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1461960" y="1146240"/>
          <a:ext cx="7392960" cy="4106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1960" y="1146240"/>
                    <a:ext cx="73929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254240" y="4716360"/>
          <a:ext cx="6811920" cy="1033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4716360"/>
                    <a:ext cx="68119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392120" y="858960"/>
          <a:ext cx="7340760" cy="503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858960"/>
                    <a:ext cx="734076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7120" y="858960"/>
          <a:ext cx="7399440" cy="469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7120" y="858960"/>
                    <a:ext cx="739944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08200" y="1522440"/>
          <a:ext cx="680400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1522440"/>
                    <a:ext cx="680400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1046160" y="444600"/>
          <a:ext cx="7966080" cy="578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444600"/>
                    <a:ext cx="79660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907920" y="277920"/>
          <a:ext cx="7974000" cy="103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7920" y="277920"/>
                    <a:ext cx="797400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116000" y="1440000"/>
          <a:ext cx="7715160" cy="4565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1440000"/>
                    <a:ext cx="771516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461960" y="30240"/>
          <a:ext cx="7234200" cy="55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30240"/>
                    <a:ext cx="723420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254240" y="4506840"/>
          <a:ext cx="7800840" cy="1800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4240" y="4506840"/>
                    <a:ext cx="78008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1254240" y="195120"/>
          <a:ext cx="7807320" cy="473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195120"/>
                    <a:ext cx="780732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530360" y="4754520"/>
          <a:ext cx="6813720" cy="1609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754520"/>
                    <a:ext cx="681372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461960" y="430200"/>
          <a:ext cx="7378920" cy="55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430200"/>
                    <a:ext cx="737892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284120" y="4965840"/>
          <a:ext cx="6813720" cy="103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4120" y="4965840"/>
                    <a:ext cx="681372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033560" y="527040"/>
          <a:ext cx="8110440" cy="544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3560" y="527040"/>
                    <a:ext cx="811044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977760" y="609480"/>
          <a:ext cx="8070840" cy="579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609480"/>
                    <a:ext cx="8070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052640" y="360360"/>
          <a:ext cx="8091360" cy="181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2640" y="360360"/>
                    <a:ext cx="809136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600200" y="2344680"/>
          <a:ext cx="6792840" cy="4068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344680"/>
                    <a:ext cx="679284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530360" y="277920"/>
          <a:ext cx="6804000" cy="10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77920"/>
                    <a:ext cx="680400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1116000" y="1440000"/>
          <a:ext cx="7675560" cy="5110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1440000"/>
                    <a:ext cx="76755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1324080" y="195120"/>
          <a:ext cx="7661160" cy="184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195120"/>
                    <a:ext cx="766116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116000" y="1190520"/>
          <a:ext cx="7873920" cy="499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1190520"/>
                    <a:ext cx="787392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9:23Z</dcterms:modified>
  <cp:revision>72</cp:revision>
  <dc:subject/>
  <dc:title>幻灯片 1</dc:title>
</cp:coreProperties>
</file>