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7.png" ContentType="image/png"/>
  <Override PartName="/ppt/media/image27.wmf" ContentType="image/x-wmf"/>
  <Override PartName="/ppt/media/image4.wmf" ContentType="image/x-wmf"/>
  <Override PartName="/ppt/media/image34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30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26.png" ContentType="image/png"/>
  <Override PartName="/ppt/media/image51.wmf" ContentType="image/x-wmf"/>
  <Override PartName="/ppt/media/image40.wmf" ContentType="image/x-wmf"/>
  <Override PartName="/ppt/media/image52.wmf" ContentType="image/x-wmf"/>
  <Override PartName="/ppt/media/image38.png" ContentType="image/png"/>
  <Override PartName="/ppt/media/image41.wmf" ContentType="image/x-wmf"/>
  <Override PartName="/ppt/media/image53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48.wmf" ContentType="image/x-wmf"/>
  <Override PartName="/ppt/media/image50.png" ContentType="image/png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73C-40CD-4A0F-88A0-6C6A0DD3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046-E100-454E-B62B-FA04DD6F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D446-B087-4BD6-A66C-B8642DA6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6168-AAC7-459A-B2EE-EDA152D4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22C-27D5-451A-B61C-BCDF8B52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F0D-F5CD-45BE-B6C0-3BC4A950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7A1-DAB2-457A-B9AA-EC47C216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C8E-0359-477F-8F03-7422B6BE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CEE-8A41-4F77-AF1F-334661A6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A2C-E246-4343-817D-1088C09B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5762-B8F4-4D50-8288-A74C0B5A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33D9-01EB-4D17-B424-73DFE45B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53BE-2060-4E35-8788-9A5C24C786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78560" y="1870200"/>
            <a:ext cx="19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第三单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914480" y="609480"/>
          <a:ext cx="680400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4480" y="609480"/>
                    <a:ext cx="68040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738440" y="776160"/>
          <a:ext cx="6811920" cy="5148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776160"/>
                    <a:ext cx="6811920" cy="51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569960" y="1440000"/>
          <a:ext cx="6804000" cy="321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9960" y="1440000"/>
                    <a:ext cx="680400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38440" y="195120"/>
          <a:ext cx="679284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195120"/>
                    <a:ext cx="679284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728720" y="4162320"/>
          <a:ext cx="7267680" cy="2086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28720" y="4162320"/>
                    <a:ext cx="726768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906560" y="1190520"/>
          <a:ext cx="6811920" cy="4116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6560" y="1190520"/>
                    <a:ext cx="6811920" cy="41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994040" y="444600"/>
          <a:ext cx="6794280" cy="5481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94040" y="444600"/>
                    <a:ext cx="6794280" cy="54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906560" y="2435400"/>
          <a:ext cx="6811920" cy="1285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6560" y="2435400"/>
                    <a:ext cx="6811920" cy="12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943280" y="527040"/>
          <a:ext cx="712152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3280" y="527040"/>
                    <a:ext cx="712152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806480" y="527040"/>
          <a:ext cx="67946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6480" y="527040"/>
                    <a:ext cx="67946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876320" y="1687680"/>
          <a:ext cx="6804000" cy="1201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6320" y="1687680"/>
                    <a:ext cx="680400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876320" y="3098880"/>
          <a:ext cx="6811920" cy="1285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76320" y="3098880"/>
                    <a:ext cx="68119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511280" y="2600280"/>
          <a:ext cx="6792840" cy="142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1280" y="2600280"/>
                    <a:ext cx="679284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836720" y="692280"/>
          <a:ext cx="68137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6720" y="692280"/>
                    <a:ext cx="68137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976400" y="277920"/>
          <a:ext cx="68119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6400" y="277920"/>
                    <a:ext cx="68119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392120" y="5438880"/>
          <a:ext cx="6813720" cy="642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92120" y="5438880"/>
                    <a:ext cx="68137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603600" y="195120"/>
            <a:ext cx="2906640" cy="70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087800" y="941400"/>
            <a:ext cx="1913040" cy="43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1600200" y="1566720"/>
          <a:ext cx="6811920" cy="4432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1566720"/>
                    <a:ext cx="68119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30360" y="2103480"/>
          <a:ext cx="6813720" cy="1928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2103480"/>
                    <a:ext cx="681372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600200" y="444600"/>
          <a:ext cx="6811920" cy="250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44600"/>
                    <a:ext cx="681192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630440" y="3341520"/>
          <a:ext cx="681192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440" y="3341520"/>
                    <a:ext cx="68119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630440" y="609480"/>
          <a:ext cx="6811920" cy="507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609480"/>
                    <a:ext cx="681192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768320" y="941400"/>
          <a:ext cx="6812280" cy="4432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8320" y="941400"/>
                    <a:ext cx="681228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698480" y="1273320"/>
          <a:ext cx="6813720" cy="3862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1273320"/>
                    <a:ext cx="6813720" cy="38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68600" y="277920"/>
          <a:ext cx="6813360" cy="378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277920"/>
                    <a:ext cx="681336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698480" y="4005360"/>
          <a:ext cx="6813720" cy="2574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4005360"/>
                    <a:ext cx="681372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530360" y="112680"/>
          <a:ext cx="6813720" cy="257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12680"/>
                    <a:ext cx="68137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876320" y="2600280"/>
          <a:ext cx="6912000" cy="3679560"/>
        </p:xfrm>
        <a:graphic>
          <a:graphicData uri="http://schemas.openxmlformats.org/drawingml/2006/table">
            <a:tbl>
              <a:tblPr/>
              <a:tblGrid>
                <a:gridCol w="1935000"/>
                <a:gridCol w="4977000"/>
              </a:tblGrid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阶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情感变化特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刚出生阶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岁以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爱的意识，通过自己的努力去唤起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少年时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熟时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既是自己的母亲，又是自己的父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孩子的爱可以概括为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738440" y="1273320"/>
          <a:ext cx="6792840" cy="3381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1273320"/>
                    <a:ext cx="6792840" cy="33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600200" y="527040"/>
          <a:ext cx="6811920" cy="642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527040"/>
                    <a:ext cx="68119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530360" y="1144440"/>
          <a:ext cx="7396200" cy="4273200"/>
        </p:xfrm>
        <a:graphic>
          <a:graphicData uri="http://schemas.openxmlformats.org/drawingml/2006/table">
            <a:tbl>
              <a:tblPr/>
              <a:tblGrid>
                <a:gridCol w="1589400"/>
                <a:gridCol w="580680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阶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情感变化特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刚出生阶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无爱的意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岁以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有被爱的意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有爱的意识，通过自己的努力去唤起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少年时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克服自我中心阶段，体验关心他人以及同他人的统一，感觉到爱唤起爱的力量，爱比被爱更重要，给予比得到更能使自己满足、快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成熟时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既是自己的母亲，又是自己的父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孩子的爱可以概括为：无爱——被爱——有爱——创造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019400" y="277920"/>
            <a:ext cx="1911600" cy="43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1668600" y="1355760"/>
          <a:ext cx="6813360" cy="378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8600" y="1355760"/>
                    <a:ext cx="681336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630440" y="941400"/>
          <a:ext cx="681192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941400"/>
                    <a:ext cx="681192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68320" y="609480"/>
          <a:ext cx="681228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8320" y="609480"/>
                    <a:ext cx="681228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698480" y="1604880"/>
          <a:ext cx="6813720" cy="3218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1604880"/>
                    <a:ext cx="681372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630440" y="360360"/>
          <a:ext cx="6811920" cy="250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360360"/>
                    <a:ext cx="681192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600200" y="3259080"/>
          <a:ext cx="681192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259080"/>
                    <a:ext cx="68119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698480" y="360360"/>
          <a:ext cx="6813720" cy="3218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360360"/>
                    <a:ext cx="681372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698480" y="3444840"/>
          <a:ext cx="6813720" cy="3218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3444840"/>
                    <a:ext cx="681372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87800" y="277920"/>
            <a:ext cx="1913040" cy="43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1698480" y="851040"/>
          <a:ext cx="6813720" cy="5148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8480" y="851040"/>
                    <a:ext cx="6813720" cy="51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324080" y="360360"/>
          <a:ext cx="6811920" cy="642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24080" y="360360"/>
                    <a:ext cx="68119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498760" y="858960"/>
            <a:ext cx="4906800" cy="5100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717560" y="609480"/>
          <a:ext cx="67946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7560" y="609480"/>
                    <a:ext cx="67946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768320" y="1190520"/>
          <a:ext cx="681228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8320" y="1190520"/>
                    <a:ext cx="681228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698480" y="1273320"/>
          <a:ext cx="6813720" cy="3862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1273320"/>
                    <a:ext cx="6813720" cy="38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768320" y="609480"/>
          <a:ext cx="681228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8320" y="609480"/>
                    <a:ext cx="681228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876320" y="776160"/>
          <a:ext cx="679464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6320" y="776160"/>
                    <a:ext cx="679464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925640" y="609480"/>
          <a:ext cx="6792840" cy="5308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609480"/>
                    <a:ext cx="67928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806480" y="682560"/>
          <a:ext cx="679464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6480" y="682560"/>
                    <a:ext cx="679464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776240" y="2103480"/>
          <a:ext cx="6804360" cy="1928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6240" y="2103480"/>
                    <a:ext cx="680436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806480" y="847800"/>
          <a:ext cx="6794640" cy="5151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6480" y="847800"/>
                    <a:ext cx="6794640" cy="51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7T02:57:07Z</dcterms:created>
  <dc:creator>微软用户</dc:creator>
  <dc:description/>
  <dc:language>en-US</dc:language>
  <cp:lastModifiedBy>Microsoft</cp:lastModifiedBy>
  <dcterms:modified xsi:type="dcterms:W3CDTF">2019-02-18T12:38:37Z</dcterms:modified>
  <cp:revision>72</cp:revision>
  <dc:subject/>
  <dc:title>幻灯片 1</dc:title>
</cp:coreProperties>
</file>