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6.png" ContentType="image/png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1.jpeg" ContentType="image/jpeg"/>
  <Override PartName="/ppt/media/image57.wmf" ContentType="image/x-wmf"/>
  <Override PartName="/ppt/media/image20.wmf" ContentType="image/x-wmf"/>
  <Override PartName="/ppt/media/image58.wmf" ContentType="image/x-wmf"/>
  <Override PartName="/ppt/media/image21.wmf" ContentType="image/x-wmf"/>
  <Override PartName="/ppt/media/image60.png" ContentType="image/png"/>
  <Override PartName="/ppt/media/image22.png" ContentType="image/png"/>
  <Override PartName="/ppt/media/image62.wmf" ContentType="image/x-wmf"/>
  <Override PartName="/ppt/media/image34.wmf" ContentType="image/x-wmf"/>
  <Override PartName="/ppt/media/image16.wmf" ContentType="image/x-wmf"/>
  <Override PartName="/ppt/media/image4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3.png" ContentType="image/png"/>
  <Override PartName="/ppt/media/image25.wmf" ContentType="image/x-wmf"/>
  <Override PartName="/ppt/media/image61.wmf" ContentType="image/x-wmf"/>
  <Override PartName="/ppt/media/image24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50.png" ContentType="image/png"/>
  <Override PartName="/ppt/media/image19.wmf" ContentType="image/x-wmf"/>
  <Override PartName="/ppt/media/image7.wmf" ContentType="image/x-wmf"/>
  <Override PartName="/ppt/media/image12.wmf" ContentType="image/x-wmf"/>
  <Override PartName="/ppt/media/image49.wmf" ContentType="image/x-wmf"/>
  <Override PartName="/ppt/media/image51.png" ContentType="image/png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7.png" ContentType="image/png"/>
  <Override PartName="/ppt/media/image40.wmf" ContentType="image/x-wmf"/>
  <Override PartName="/ppt/media/image4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67E-02D6-4E77-B360-2C148969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F93-6DC7-4B31-A553-9C5CFAFF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4F0-4A95-4D83-94B8-1B2D0E51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3E0-BC5E-4771-823A-BF997F84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821-9508-4E5D-8FAB-137E2EA1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689-4241-4DA9-BE9D-B9397AEE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6A5-A270-419D-AEB3-2FD349A6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6110-7304-4C32-BB18-E62C7D0E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A68-47C2-4C74-B9D7-BCE8D376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B73-BAD2-4277-B10C-05337793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2281-6871-4840-9A5D-50645FAF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30E-6B9A-4841-A3C0-7FC50DE5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2F91-20D8-44D4-9EF5-5173563A88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8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61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5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68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69.wmf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78560" y="1870200"/>
            <a:ext cx="19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第二单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855800" y="609480"/>
          <a:ext cx="67946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5800" y="609480"/>
                    <a:ext cx="67946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806480" y="277920"/>
          <a:ext cx="6794640" cy="321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6480" y="277920"/>
                    <a:ext cx="679464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768320" y="3424320"/>
          <a:ext cx="6812280" cy="29066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68320" y="3424320"/>
                    <a:ext cx="681228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044800" y="2600280"/>
          <a:ext cx="6811920" cy="128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4800" y="2600280"/>
                    <a:ext cx="68119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806480" y="360360"/>
          <a:ext cx="6813720" cy="3871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6480" y="360360"/>
                    <a:ext cx="6813720" cy="38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768320" y="4546440"/>
          <a:ext cx="6812280" cy="1287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68320" y="4546440"/>
                    <a:ext cx="681228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994040" y="527040"/>
          <a:ext cx="6794280" cy="541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4040" y="527040"/>
                    <a:ext cx="67942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906560" y="1854360"/>
          <a:ext cx="681192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6560" y="1854360"/>
                    <a:ext cx="681192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925640" y="444600"/>
          <a:ext cx="6792840" cy="540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444600"/>
                    <a:ext cx="6792840" cy="54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044800" y="1440000"/>
          <a:ext cx="6811920" cy="321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4800" y="1440000"/>
                    <a:ext cx="681192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603600" y="195120"/>
            <a:ext cx="2906640" cy="701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087800" y="941400"/>
            <a:ext cx="1913040" cy="43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530360" y="1557360"/>
          <a:ext cx="6813720" cy="4359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1557360"/>
                    <a:ext cx="681372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530360" y="1273320"/>
          <a:ext cx="6813720" cy="3862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273320"/>
                    <a:ext cx="6813720" cy="38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11280" y="2600280"/>
          <a:ext cx="6792840" cy="142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1280" y="2600280"/>
                    <a:ext cx="67928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530360" y="1273320"/>
          <a:ext cx="6813720" cy="3716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273320"/>
                    <a:ext cx="681372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876320" y="527040"/>
          <a:ext cx="6811920" cy="64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6320" y="527040"/>
                    <a:ext cx="68119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806480" y="1428840"/>
          <a:ext cx="6912000" cy="3742920"/>
        </p:xfrm>
        <a:graphic>
          <a:graphicData uri="http://schemas.openxmlformats.org/drawingml/2006/table">
            <a:tbl>
              <a:tblPr/>
              <a:tblGrid>
                <a:gridCol w="872280"/>
                <a:gridCol w="1951560"/>
                <a:gridCol w="977760"/>
                <a:gridCol w="2108160"/>
                <a:gridCol w="1002240"/>
              </a:tblGrid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《念奴娇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赤壁怀古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《雨霖铃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情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大江、乱石、惊涛、雪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壮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寒蝉、烟波、暮霭、杨柳、晓风、残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凄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情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指挥若定，谈笑却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豪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执手相看，无语凝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缠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情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壮志难酬之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悲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清秋离别之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凄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风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豪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婉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668600" y="444600"/>
          <a:ext cx="6813360" cy="3071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444600"/>
                    <a:ext cx="681336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698480" y="3112920"/>
          <a:ext cx="6813720" cy="3218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3112920"/>
                    <a:ext cx="681372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668600" y="698400"/>
          <a:ext cx="6813360" cy="314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698400"/>
                    <a:ext cx="681336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630440" y="4008600"/>
          <a:ext cx="6811920" cy="6426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4008600"/>
                    <a:ext cx="6811920" cy="64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600200" y="776160"/>
          <a:ext cx="6811920" cy="314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776160"/>
                    <a:ext cx="681192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600200" y="4130640"/>
          <a:ext cx="6811920" cy="128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4130640"/>
                    <a:ext cx="68119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600200" y="54000"/>
          <a:ext cx="681192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54000"/>
                    <a:ext cx="68119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668600" y="3755880"/>
          <a:ext cx="681336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3755880"/>
                    <a:ext cx="681336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698480" y="1108080"/>
          <a:ext cx="6813720" cy="4503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1108080"/>
                    <a:ext cx="68137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087800" y="277920"/>
            <a:ext cx="1913040" cy="43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1530360" y="941400"/>
          <a:ext cx="6813720" cy="371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0360" y="941400"/>
                    <a:ext cx="681372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738440" y="4773600"/>
          <a:ext cx="6811920" cy="1392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8440" y="4773600"/>
                    <a:ext cx="68119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98480" y="277920"/>
          <a:ext cx="68137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277920"/>
                    <a:ext cx="68137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668600" y="4152960"/>
          <a:ext cx="6813360" cy="1928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4152960"/>
                    <a:ext cx="681336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630440" y="1936800"/>
          <a:ext cx="681192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936800"/>
                    <a:ext cx="681192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806480" y="1023840"/>
          <a:ext cx="6794640" cy="466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6480" y="1023840"/>
                    <a:ext cx="679464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560600" y="692280"/>
          <a:ext cx="6813360" cy="500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692280"/>
                    <a:ext cx="6813360" cy="50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630440" y="941400"/>
          <a:ext cx="681192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941400"/>
                    <a:ext cx="681192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560600" y="2103480"/>
          <a:ext cx="6813360" cy="1928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2103480"/>
                    <a:ext cx="681336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019400" y="277920"/>
            <a:ext cx="1911600" cy="43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1768320" y="1273320"/>
          <a:ext cx="6812280" cy="3862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8320" y="1273320"/>
                    <a:ext cx="6812280" cy="38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698480" y="1604880"/>
          <a:ext cx="6813720" cy="321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1604880"/>
                    <a:ext cx="681372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600200" y="692280"/>
          <a:ext cx="6811920" cy="64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692280"/>
                    <a:ext cx="68119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843280" y="1440000"/>
            <a:ext cx="4494240" cy="1769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3535200" y="3676680"/>
            <a:ext cx="3227400" cy="148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698480" y="692280"/>
          <a:ext cx="68137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692280"/>
                    <a:ext cx="68137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630440" y="1023840"/>
          <a:ext cx="681192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023840"/>
                    <a:ext cx="681192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600200" y="695160"/>
          <a:ext cx="6792840" cy="540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695160"/>
                    <a:ext cx="679284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668600" y="444600"/>
          <a:ext cx="681336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444600"/>
                    <a:ext cx="681336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698480" y="2268360"/>
          <a:ext cx="6813720" cy="3862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2268360"/>
                    <a:ext cx="68137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944720" y="858960"/>
          <a:ext cx="6794640" cy="321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4720" y="858960"/>
                    <a:ext cx="679464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944720" y="4130640"/>
          <a:ext cx="6813360" cy="128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44720" y="4130640"/>
                    <a:ext cx="681336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600200" y="692280"/>
          <a:ext cx="68119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692280"/>
                    <a:ext cx="68119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768320" y="692280"/>
          <a:ext cx="681228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8320" y="692280"/>
                    <a:ext cx="681228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600200" y="1771560"/>
          <a:ext cx="6811920" cy="2573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771560"/>
                    <a:ext cx="681192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019400" y="360360"/>
            <a:ext cx="1911600" cy="4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1185840" y="941400"/>
          <a:ext cx="7886880" cy="5450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5840" y="941400"/>
                    <a:ext cx="788688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324080" y="833400"/>
          <a:ext cx="7623000" cy="4834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4080" y="833400"/>
                    <a:ext cx="7623000" cy="48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324080" y="776160"/>
          <a:ext cx="7439040" cy="4873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4080" y="776160"/>
                    <a:ext cx="7439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69840" y="1771560"/>
          <a:ext cx="8026560" cy="3040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9840" y="1771560"/>
                    <a:ext cx="8026560" cy="30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392120" y="527040"/>
          <a:ext cx="7372440" cy="524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2120" y="527040"/>
                    <a:ext cx="7372440" cy="52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461960" y="527040"/>
          <a:ext cx="7375680" cy="950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527040"/>
                    <a:ext cx="737568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254240" y="1604880"/>
          <a:ext cx="7721640" cy="2765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4240" y="1604880"/>
                    <a:ext cx="772164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560600" y="3594240"/>
          <a:ext cx="6813360" cy="1608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60600" y="3594240"/>
                    <a:ext cx="681336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461960" y="5253120"/>
          <a:ext cx="6811920" cy="10335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61960" y="5253120"/>
                    <a:ext cx="68119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144440" y="1440000"/>
          <a:ext cx="7920360" cy="3713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440" y="1440000"/>
                    <a:ext cx="792036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784520" y="528480"/>
          <a:ext cx="6794280" cy="5497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4520" y="528480"/>
                    <a:ext cx="679428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717560" y="609480"/>
          <a:ext cx="67946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7560" y="609480"/>
                    <a:ext cx="67946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738440" y="112680"/>
          <a:ext cx="680400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112680"/>
                    <a:ext cx="680400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806480" y="1994040"/>
          <a:ext cx="6794640" cy="45036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06480" y="1994040"/>
                    <a:ext cx="679464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787400" y="609480"/>
          <a:ext cx="679320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609480"/>
                    <a:ext cx="679320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738440" y="609480"/>
          <a:ext cx="67928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609480"/>
                    <a:ext cx="67928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7T02:57:07Z</dcterms:created>
  <dc:creator>微软用户</dc:creator>
  <dc:description/>
  <dc:language>en-US</dc:language>
  <cp:lastModifiedBy>Microsoft</cp:lastModifiedBy>
  <dcterms:modified xsi:type="dcterms:W3CDTF">2019-02-18T12:36:59Z</dcterms:modified>
  <cp:revision>72</cp:revision>
  <dc:subject/>
  <dc:title>幻灯片 1</dc:title>
</cp:coreProperties>
</file>