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6.wmf" ContentType="image/x-wmf"/>
  <Override PartName="/ppt/media/image45.wmf" ContentType="image/x-wmf"/>
  <Override PartName="/ppt/media/image44.png" ContentType="image/png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1.jpeg" ContentType="image/jpeg"/>
  <Override PartName="/ppt/media/image5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59.wmf" ContentType="image/x-wmf"/>
  <Override PartName="/ppt/media/image24.png" ContentType="image/png"/>
  <Override PartName="/ppt/media/image64.wmf" ContentType="image/x-wmf"/>
  <Override PartName="/ppt/media/image34.wmf" ContentType="image/x-wmf"/>
  <Override PartName="/ppt/media/image16.wmf" ContentType="image/x-wmf"/>
  <Override PartName="/ppt/media/image4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7.wmf" ContentType="image/x-wmf"/>
  <Override PartName="/ppt/media/image22.wmf" ContentType="image/x-wmf"/>
  <Override PartName="/ppt/media/image65.png" ContentType="image/png"/>
  <Override PartName="/ppt/media/image26.wmf" ContentType="image/x-wmf"/>
  <Override PartName="/ppt/media/image63.wmf" ContentType="image/x-wmf"/>
  <Override PartName="/ppt/media/image23.png" ContentType="image/png"/>
  <Override PartName="/ppt/media/image25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A3D-55A5-43E6-AE6A-E2C3B9FA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62F-5266-4785-AFF1-BBD11671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C1D6-DF66-4609-9C7A-285044A7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EFF-314A-474C-BF4D-1880D589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724-7A58-4D97-A722-ECCE74C8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C21-3A93-455A-9671-D89F62D7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519-61DB-46E4-A29F-AA3CF991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5F6-0A83-454E-BE2C-2032C719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B82-47A7-4E17-9647-7504BD9A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1AC-E272-47D4-87E0-69952E7A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119-C759-46B4-9DD5-2B4AC96D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533-5166-4972-92F2-548BB3C8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CEBD-1D5F-4716-A070-6BDF8F9353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5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4.wmf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1.wmf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3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78560" y="1870200"/>
            <a:ext cx="19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第二单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41320" y="692280"/>
          <a:ext cx="6977160" cy="5151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1320" y="692280"/>
                    <a:ext cx="697716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876320" y="1771560"/>
          <a:ext cx="6811920" cy="2573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6320" y="1771560"/>
                    <a:ext cx="681192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76320" y="941400"/>
          <a:ext cx="6794640" cy="4503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6320" y="941400"/>
                    <a:ext cx="679464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944720" y="527040"/>
          <a:ext cx="6813360" cy="2906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4720" y="527040"/>
                    <a:ext cx="681336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944720" y="3727440"/>
          <a:ext cx="6813360" cy="1857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44720" y="3727440"/>
                    <a:ext cx="681336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738440" y="527040"/>
          <a:ext cx="6792840" cy="541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527040"/>
                    <a:ext cx="67928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738440" y="277920"/>
          <a:ext cx="680400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277920"/>
                    <a:ext cx="680400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717560" y="4170240"/>
          <a:ext cx="6794640" cy="2078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7560" y="4170240"/>
                    <a:ext cx="6794640" cy="20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569960" y="2103480"/>
          <a:ext cx="6804000" cy="1928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9960" y="2103480"/>
                    <a:ext cx="68040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25640" y="527040"/>
          <a:ext cx="6792840" cy="4494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527040"/>
                    <a:ext cx="679284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944720" y="3843360"/>
          <a:ext cx="6813360" cy="1928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44720" y="3843360"/>
                    <a:ext cx="681336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603600" y="195120"/>
            <a:ext cx="2906640" cy="701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087800" y="941400"/>
            <a:ext cx="1913040" cy="43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1560600" y="1936800"/>
          <a:ext cx="6813360" cy="3144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0600" y="1936800"/>
                    <a:ext cx="681336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698480" y="1355760"/>
          <a:ext cx="68137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355760"/>
                    <a:ext cx="68137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11280" y="2600280"/>
          <a:ext cx="6792840" cy="142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2600280"/>
                    <a:ext cx="67928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600200" y="195120"/>
          <a:ext cx="6811920" cy="314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5120"/>
                    <a:ext cx="68119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668600" y="3279600"/>
          <a:ext cx="6813360" cy="3218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3279600"/>
                    <a:ext cx="681336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600200" y="195120"/>
          <a:ext cx="6811920" cy="314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5120"/>
                    <a:ext cx="68119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600200" y="3181320"/>
          <a:ext cx="6991200" cy="3175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181320"/>
                    <a:ext cx="6991200" cy="31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530360" y="444600"/>
          <a:ext cx="6813720" cy="250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444600"/>
                    <a:ext cx="681372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600200" y="2948040"/>
          <a:ext cx="6811920" cy="3217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2948040"/>
                    <a:ext cx="68119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530360" y="195120"/>
          <a:ext cx="6813720" cy="314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95120"/>
                    <a:ext cx="68137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530360" y="3197160"/>
          <a:ext cx="6813720" cy="3216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3197160"/>
                    <a:ext cx="681372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600200" y="679320"/>
          <a:ext cx="6811920" cy="250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679320"/>
                    <a:ext cx="681192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630440" y="3263760"/>
          <a:ext cx="681192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3263760"/>
                    <a:ext cx="68119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600200" y="112680"/>
          <a:ext cx="6811920" cy="314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12680"/>
                    <a:ext cx="68119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600200" y="3151080"/>
          <a:ext cx="6792840" cy="3429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151080"/>
                    <a:ext cx="6792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630440" y="360360"/>
          <a:ext cx="6811920" cy="250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360360"/>
                    <a:ext cx="681192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668600" y="2865600"/>
          <a:ext cx="6813360" cy="3216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2865600"/>
                    <a:ext cx="681336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698480" y="1355760"/>
          <a:ext cx="681372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355760"/>
                    <a:ext cx="68137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600200" y="444600"/>
          <a:ext cx="681192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44600"/>
                    <a:ext cx="68119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600200" y="2484360"/>
          <a:ext cx="7256520" cy="3182760"/>
        </p:xfrm>
        <a:graphic>
          <a:graphicData uri="http://schemas.openxmlformats.org/drawingml/2006/table">
            <a:tbl>
              <a:tblPr/>
              <a:tblGrid>
                <a:gridCol w="1658520"/>
                <a:gridCol w="1969920"/>
                <a:gridCol w="1969200"/>
                <a:gridCol w="1658880"/>
              </a:tblGrid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场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离别时的景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离别时的情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全词意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③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⑩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④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⑤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⑥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⑦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⑨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698480" y="1273320"/>
          <a:ext cx="6813720" cy="3862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273320"/>
                    <a:ext cx="6813720" cy="38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738440" y="527040"/>
          <a:ext cx="6792840" cy="530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527040"/>
                    <a:ext cx="67928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49560" y="360360"/>
            <a:ext cx="1913040" cy="4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1530360" y="941400"/>
          <a:ext cx="6813720" cy="314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0360" y="941400"/>
                    <a:ext cx="68137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492200" y="4152960"/>
          <a:ext cx="6811920" cy="1928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2200" y="4152960"/>
                    <a:ext cx="68119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698480" y="1023840"/>
          <a:ext cx="681372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023840"/>
                    <a:ext cx="681372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668600" y="360360"/>
          <a:ext cx="681336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360360"/>
                    <a:ext cx="681336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600200" y="4235400"/>
          <a:ext cx="6811920" cy="1930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4235400"/>
                    <a:ext cx="68119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738440" y="609480"/>
          <a:ext cx="6792840" cy="5364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609480"/>
                    <a:ext cx="6792840" cy="53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087800" y="360360"/>
            <a:ext cx="1913040" cy="4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1698480" y="1273320"/>
          <a:ext cx="6813720" cy="4505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8480" y="1273320"/>
                    <a:ext cx="681372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600200" y="1355760"/>
          <a:ext cx="681192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355760"/>
                    <a:ext cx="68119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560600" y="692280"/>
          <a:ext cx="6813360" cy="64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692280"/>
                    <a:ext cx="68133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182680" y="1522440"/>
            <a:ext cx="5915160" cy="398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768320" y="609480"/>
          <a:ext cx="681228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8320" y="609480"/>
                    <a:ext cx="681228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600200" y="1108080"/>
          <a:ext cx="6811920" cy="386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108080"/>
                    <a:ext cx="681192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738440" y="1440000"/>
          <a:ext cx="6811920" cy="386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440000"/>
                    <a:ext cx="681192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708200" y="277920"/>
          <a:ext cx="680400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8200" y="277920"/>
                    <a:ext cx="680400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717560" y="3363840"/>
          <a:ext cx="6794640" cy="3216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7560" y="3363840"/>
                    <a:ext cx="679464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630440" y="69228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69228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668600" y="360360"/>
          <a:ext cx="7018200" cy="321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360360"/>
                    <a:ext cx="701820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698480" y="2948040"/>
          <a:ext cx="6813720" cy="3217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2948040"/>
                    <a:ext cx="68137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600200" y="212760"/>
          <a:ext cx="681192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12760"/>
                    <a:ext cx="68119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630440" y="3197160"/>
          <a:ext cx="6811920" cy="3216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3197160"/>
                    <a:ext cx="681192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630440" y="1440000"/>
          <a:ext cx="6811920" cy="321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440000"/>
                    <a:ext cx="681192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277920"/>
            <a:ext cx="1911600" cy="43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1254240" y="846000"/>
          <a:ext cx="7338960" cy="5070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4240" y="846000"/>
                    <a:ext cx="733896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527120" y="363600"/>
          <a:ext cx="7596360" cy="5797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7120" y="363600"/>
                    <a:ext cx="7596360" cy="57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530360" y="5418000"/>
          <a:ext cx="4772160" cy="865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5418000"/>
                    <a:ext cx="477216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254240" y="527040"/>
          <a:ext cx="7576920" cy="5434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4240" y="527040"/>
                    <a:ext cx="7576920" cy="54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324080" y="941400"/>
          <a:ext cx="7418160" cy="4937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4080" y="941400"/>
                    <a:ext cx="741816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906560" y="1355760"/>
          <a:ext cx="68119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6560" y="1355760"/>
                    <a:ext cx="68119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738440" y="692280"/>
          <a:ext cx="6792840" cy="530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692280"/>
                    <a:ext cx="67928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855800" y="360360"/>
          <a:ext cx="6794640" cy="384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5800" y="360360"/>
                    <a:ext cx="679464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836720" y="3755880"/>
          <a:ext cx="681372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6720" y="3755880"/>
                    <a:ext cx="68137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855800" y="527040"/>
          <a:ext cx="679464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5800" y="527040"/>
                    <a:ext cx="679464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836720" y="1023840"/>
          <a:ext cx="681372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6720" y="1023840"/>
                    <a:ext cx="681372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7T02:57:07Z</dcterms:created>
  <dc:creator>微软用户</dc:creator>
  <dc:description/>
  <dc:language>en-US</dc:language>
  <cp:lastModifiedBy>Microsoft</cp:lastModifiedBy>
  <dcterms:modified xsi:type="dcterms:W3CDTF">2019-02-18T12:36:47Z</dcterms:modified>
  <cp:revision>72</cp:revision>
  <dc:subject/>
  <dc:title>幻灯片 1</dc:title>
</cp:coreProperties>
</file>