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3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9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28.png" ContentType="image/png"/>
  <Override PartName="/ppt/media/image31.wmf" ContentType="image/x-wmf"/>
  <Override PartName="/ppt/media/image38.wmf" ContentType="image/x-wmf"/>
  <Override PartName="/ppt/media/image8.wmf" ContentType="image/x-wmf"/>
  <Override PartName="/ppt/media/image11.wmf" ContentType="image/x-wmf"/>
  <Override PartName="/ppt/media/image48.wmf" ContentType="image/x-wmf"/>
  <Override PartName="/ppt/media/image50.png" ContentType="image/png"/>
  <Override PartName="/ppt/media/image4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998-0EF1-4F9C-B989-65DAC7CF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982-C117-45B9-8F38-92256349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EC0-05CB-4E32-B412-63DB1840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6DA-B4EC-49FB-9182-CB6F5A0F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871-6E53-4D0A-9C7B-4976B157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FEF-5A8C-4179-9C26-07749ADD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2D5-DC7A-44D5-9DA7-4735595E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1F4-9EA7-4A7C-9E11-F3E4F9AC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23B-4F78-48FC-AC7A-62C97EB6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F49-9B3B-41C5-B9F6-D033B9A5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A5D-DCA9-4982-BA98-B210F2A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FD7-D6B3-4143-8755-18FEFC7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158C-4A1E-448D-82F3-6A3AFEA973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2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1360" y="1870200"/>
            <a:ext cx="1056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一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08200" y="1023840"/>
          <a:ext cx="680400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1023840"/>
                    <a:ext cx="68040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87400" y="609480"/>
          <a:ext cx="6793200" cy="551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17560" y="52704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52704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87400" y="512640"/>
          <a:ext cx="679320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512640"/>
                    <a:ext cx="67932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876320" y="527040"/>
          <a:ext cx="6794640" cy="338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527040"/>
                    <a:ext cx="679464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976400" y="3821040"/>
          <a:ext cx="6811920" cy="2427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76400" y="3821040"/>
                    <a:ext cx="6811920" cy="24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906560" y="277920"/>
          <a:ext cx="6811920" cy="387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277920"/>
                    <a:ext cx="68119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876320" y="4152960"/>
          <a:ext cx="6804000" cy="2095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76320" y="4152960"/>
                    <a:ext cx="68040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76320" y="2185920"/>
          <a:ext cx="68119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2185920"/>
                    <a:ext cx="68119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994040" y="527040"/>
          <a:ext cx="679428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527040"/>
                    <a:ext cx="679428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25640" y="444600"/>
          <a:ext cx="6792840" cy="54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444600"/>
                    <a:ext cx="679284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87400" y="609480"/>
          <a:ext cx="679320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30360" y="2600280"/>
          <a:ext cx="679464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600280"/>
                    <a:ext cx="67946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776240" y="2435400"/>
          <a:ext cx="6804360" cy="1199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6240" y="2435400"/>
                    <a:ext cx="680436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85580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876320" y="52704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52704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76240" y="2600280"/>
          <a:ext cx="6804360" cy="1201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6240" y="2600280"/>
                    <a:ext cx="68043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603600" y="19512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087800" y="941400"/>
            <a:ext cx="191304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600200" y="1557360"/>
          <a:ext cx="6811920" cy="4359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1557360"/>
                    <a:ext cx="68119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560600" y="1854360"/>
          <a:ext cx="681336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1854360"/>
                    <a:ext cx="681336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530360" y="277920"/>
          <a:ext cx="6813720" cy="3716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77920"/>
                    <a:ext cx="68137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560600" y="4005360"/>
          <a:ext cx="6813360" cy="2574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0600" y="4005360"/>
                    <a:ext cx="681336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738440" y="609480"/>
          <a:ext cx="6792840" cy="563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609480"/>
                    <a:ext cx="679284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30440" y="609480"/>
          <a:ext cx="6811920" cy="507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630440" y="1936800"/>
          <a:ext cx="681192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93680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0200" y="609480"/>
          <a:ext cx="679284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09480"/>
                    <a:ext cx="67928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00200" y="527040"/>
          <a:ext cx="6792840" cy="533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27040"/>
                    <a:ext cx="679284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698480" y="2185920"/>
          <a:ext cx="68137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218592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698480" y="444600"/>
          <a:ext cx="6813720" cy="564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444600"/>
                    <a:ext cx="681372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30360" y="112680"/>
          <a:ext cx="68137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12680"/>
                    <a:ext cx="68137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560600" y="3197160"/>
          <a:ext cx="6813360" cy="3216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0600" y="3197160"/>
                    <a:ext cx="68133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019400" y="195120"/>
            <a:ext cx="1911600" cy="43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530360" y="776160"/>
          <a:ext cx="6813720" cy="371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0360" y="776160"/>
                    <a:ext cx="6813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560600" y="4483080"/>
          <a:ext cx="6813360" cy="1930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60600" y="448308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698480" y="776160"/>
          <a:ext cx="6813720" cy="514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776160"/>
                    <a:ext cx="681372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60600" y="1190520"/>
          <a:ext cx="681336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1190520"/>
                    <a:ext cx="681336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630440" y="941400"/>
          <a:ext cx="68119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941400"/>
                    <a:ext cx="68119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30360" y="1023840"/>
          <a:ext cx="6813720" cy="4361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023840"/>
                    <a:ext cx="681372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704960" y="692280"/>
          <a:ext cx="6945480" cy="515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4960" y="692280"/>
                    <a:ext cx="69454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38440" y="1771560"/>
          <a:ext cx="6811920" cy="2573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771560"/>
                    <a:ext cx="681192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00200" y="6922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922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157640" y="360360"/>
            <a:ext cx="1911240" cy="4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1768320" y="1355760"/>
          <a:ext cx="6812280" cy="4505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8320" y="1355760"/>
                    <a:ext cx="681228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530360" y="941400"/>
          <a:ext cx="68137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941400"/>
                    <a:ext cx="6813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944720" y="1962000"/>
            <a:ext cx="6635880" cy="304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30440" y="6922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922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668600" y="277920"/>
          <a:ext cx="681336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277920"/>
                    <a:ext cx="681336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668600" y="3263760"/>
          <a:ext cx="6813360" cy="3218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3263760"/>
                    <a:ext cx="681336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698480" y="941400"/>
          <a:ext cx="681372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941400"/>
                    <a:ext cx="68137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855800" y="1190520"/>
          <a:ext cx="679464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1190520"/>
                    <a:ext cx="679464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925640" y="692280"/>
          <a:ext cx="6792840" cy="515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692280"/>
                    <a:ext cx="679284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787400" y="692280"/>
          <a:ext cx="679320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92280"/>
                    <a:ext cx="67932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668600" y="776160"/>
          <a:ext cx="680400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776160"/>
                    <a:ext cx="6804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698480" y="2616120"/>
          <a:ext cx="6813720" cy="3218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2616120"/>
                    <a:ext cx="68137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787400" y="692280"/>
          <a:ext cx="6793200" cy="515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92280"/>
                    <a:ext cx="679320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5:37Z</dcterms:modified>
  <cp:revision>72</cp:revision>
  <dc:subject/>
  <dc:title>幻灯片 1</dc:title>
</cp:coreProperties>
</file>