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A26-CE8D-4196-AB66-4D1AA758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65B-2A80-454E-9EA6-0F76DD2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C2E-7F9E-47EF-B4C1-3C0A4854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95A-308A-41D8-9917-83043544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F17-E778-4604-92B4-A45474C4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2A5-78CB-444E-A314-016F60D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B78-6547-44F6-B2D9-75F4DB3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384-4777-48E7-AAF5-7A9AFD8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FC0-A6EA-4BCD-B2C6-54DCD14D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248-0679-4DDF-948B-3DD4C59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77D-DD9C-4E5C-AF97-3CD8C59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AA5-867A-4764-906C-3609D9C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F3C7-945E-4D13-9824-0C0B33C7C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1360" y="1870200"/>
            <a:ext cx="105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一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87400" y="609480"/>
          <a:ext cx="679320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08200" y="1023840"/>
          <a:ext cx="680400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023840"/>
                    <a:ext cx="68040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87400" y="600120"/>
          <a:ext cx="67932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0120"/>
                    <a:ext cx="67932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600200" y="44460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22640" y="2367000"/>
          <a:ext cx="5344920" cy="3382560"/>
        </p:xfrm>
        <a:graphic>
          <a:graphicData uri="http://schemas.openxmlformats.org/drawingml/2006/table">
            <a:tbl>
              <a:tblPr/>
              <a:tblGrid>
                <a:gridCol w="1558080"/>
                <a:gridCol w="1893600"/>
                <a:gridCol w="189324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艺术形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表现手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话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歌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白毛女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舞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丝路花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剧本繁简和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独幕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一只马蜂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幕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22640" y="1604880"/>
          <a:ext cx="5643360" cy="3374640"/>
        </p:xfrm>
        <a:graphic>
          <a:graphicData uri="http://schemas.openxmlformats.org/drawingml/2006/table">
            <a:tbl>
              <a:tblPr/>
              <a:tblGrid>
                <a:gridCol w="1557720"/>
                <a:gridCol w="1892880"/>
                <a:gridCol w="2192760"/>
              </a:tblGrid>
              <a:tr h="12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题材反映的时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现代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屈原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矛盾冲突的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悲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屈原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喜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威尼斯商人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悲喜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白毛女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61960" y="82440"/>
          <a:ext cx="6793200" cy="442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82440"/>
                    <a:ext cx="679320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50800" y="3346560"/>
          <a:ext cx="7545600" cy="2914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50800" y="3346560"/>
                    <a:ext cx="75456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3672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30360" y="195120"/>
          <a:ext cx="7386480" cy="435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73864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7120" y="4567320"/>
          <a:ext cx="7399440" cy="209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7120" y="4567320"/>
                    <a:ext cx="73994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30440" y="2268360"/>
          <a:ext cx="6811920" cy="193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268360"/>
                    <a:ext cx="6811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717560" y="276120"/>
          <a:ext cx="6794640" cy="38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276120"/>
                    <a:ext cx="679464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738440" y="3594240"/>
          <a:ext cx="6792840" cy="2850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594240"/>
                    <a:ext cx="6792840" cy="28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30360" y="2517840"/>
          <a:ext cx="67946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517840"/>
                    <a:ext cx="67946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60600" y="2185920"/>
          <a:ext cx="681336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1859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2880" y="609480"/>
          <a:ext cx="70754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609480"/>
                    <a:ext cx="70754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79680" y="941400"/>
          <a:ext cx="679428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9680" y="941400"/>
                    <a:ext cx="6794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0" y="11268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087800" y="85896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630440" y="1420920"/>
          <a:ext cx="6811920" cy="5076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42092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2779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779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68600" y="4152960"/>
          <a:ext cx="681336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15296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698480" y="2019240"/>
          <a:ext cx="681372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01924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98480" y="692280"/>
          <a:ext cx="68137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92280"/>
                    <a:ext cx="68137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92200" y="6922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6922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30440" y="77616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77616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98480" y="1854360"/>
          <a:ext cx="68137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854360"/>
                    <a:ext cx="68137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38440" y="1355760"/>
          <a:ext cx="6792840" cy="338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355760"/>
                    <a:ext cx="679284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019400" y="112680"/>
            <a:ext cx="191160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530360" y="609480"/>
          <a:ext cx="6813720" cy="250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609480"/>
                    <a:ext cx="681372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00200" y="3005280"/>
          <a:ext cx="7102440" cy="349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005280"/>
                    <a:ext cx="71024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779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600200" y="4152960"/>
          <a:ext cx="68119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15296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600200" y="60660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66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600200" y="3281400"/>
          <a:ext cx="6792840" cy="2717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281400"/>
                    <a:ext cx="679284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638360" y="1604880"/>
          <a:ext cx="680400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360" y="1604880"/>
                    <a:ext cx="680400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019400" y="444600"/>
            <a:ext cx="191160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668600" y="1108080"/>
          <a:ext cx="6792840" cy="498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8600" y="1108080"/>
                    <a:ext cx="679284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00200" y="36036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084400" y="957240"/>
            <a:ext cx="6081840" cy="46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98480" y="527040"/>
          <a:ext cx="695196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527040"/>
                    <a:ext cx="69519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668600" y="609480"/>
          <a:ext cx="693252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09480"/>
                    <a:ext cx="693252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08200" y="360360"/>
          <a:ext cx="680400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360360"/>
                    <a:ext cx="6804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98480" y="2932200"/>
          <a:ext cx="6813720" cy="3217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293220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30440" y="21034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1034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855800" y="60948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06480" y="609480"/>
          <a:ext cx="6794640" cy="25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09480"/>
                    <a:ext cx="679464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806480" y="3408480"/>
          <a:ext cx="6794640" cy="275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6480" y="3408480"/>
                    <a:ext cx="679464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600200" y="682560"/>
          <a:ext cx="69454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82560"/>
                    <a:ext cx="69454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649520" y="444600"/>
          <a:ext cx="6792840" cy="530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9520" y="444600"/>
                    <a:ext cx="679284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68600" y="444600"/>
          <a:ext cx="680400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040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717560" y="3594240"/>
          <a:ext cx="6794640" cy="26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3594240"/>
                    <a:ext cx="679464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668600" y="1108080"/>
          <a:ext cx="680400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108080"/>
                    <a:ext cx="68040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5:27Z</dcterms:modified>
  <cp:revision>72</cp:revision>
  <dc:subject/>
  <dc:title>幻灯片 1</dc:title>
</cp:coreProperties>
</file>