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58.wmf" ContentType="image/x-wmf"/>
  <Override PartName="/ppt/media/image68.wmf" ContentType="image/x-wmf"/>
  <Override PartName="/ppt/media/image31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6.wmf" ContentType="image/x-wmf"/>
  <Override PartName="/ppt/media/image63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62.wmf" ContentType="image/x-wmf"/>
  <Override PartName="/ppt/media/image61.png" ContentType="image/png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649-E5C8-4DE1-9D29-14CB946B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B14-5DF0-4D29-81BA-6A5F9AA8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98D2-0B04-4E6B-8599-85763B92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884-6BF7-4FAE-B0FA-0E853788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207-160A-41AB-B6CE-255811F7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441-38E7-4CD4-AEDA-FF726DA3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22C-0B93-4D7D-BE26-1AD82207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8E0-7863-4DB0-A95B-9416B9EB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0A0-15B1-4FAF-9C99-98FE17ED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3C4-198D-4727-B4EF-CFA9545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556-D0EE-419F-8178-8248247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EF1-8AEA-4EA8-9D61-59B6790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0D9D-5507-492F-A395-7741A0A50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1360" y="1870200"/>
            <a:ext cx="105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一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08200" y="1440000"/>
          <a:ext cx="680400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440000"/>
                    <a:ext cx="68040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38440" y="609480"/>
          <a:ext cx="67928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609480"/>
                    <a:ext cx="67928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600200" y="44460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00200" y="2268360"/>
          <a:ext cx="679284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268360"/>
                    <a:ext cx="67928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717560" y="4226040"/>
          <a:ext cx="6794640" cy="1855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17560" y="4226040"/>
                    <a:ext cx="679464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08200" y="941400"/>
          <a:ext cx="680400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941400"/>
                    <a:ext cx="68040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76320" y="60948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60948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638360" y="201924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360" y="201924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25640" y="527040"/>
          <a:ext cx="67928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527040"/>
                    <a:ext cx="67928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787400" y="642960"/>
          <a:ext cx="6793200" cy="336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42960"/>
                    <a:ext cx="679320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1776240" y="3765600"/>
          <a:ext cx="6804360" cy="2565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76240" y="3765600"/>
                    <a:ext cx="68043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768320" y="2019240"/>
          <a:ext cx="6812280" cy="235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2019240"/>
                    <a:ext cx="681228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44720" y="112680"/>
          <a:ext cx="6794640" cy="5481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44720" y="112680"/>
                    <a:ext cx="6794640" cy="54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944720" y="545796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545796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324080" y="2351160"/>
          <a:ext cx="6813360" cy="108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2351160"/>
                    <a:ext cx="68133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806480" y="417600"/>
          <a:ext cx="679464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417600"/>
                    <a:ext cx="6794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800360" y="4809960"/>
          <a:ext cx="7056360" cy="1271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0360" y="4809960"/>
                    <a:ext cx="7056360" cy="12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806480" y="277920"/>
          <a:ext cx="6794640" cy="2631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277920"/>
                    <a:ext cx="679464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855800" y="2874960"/>
          <a:ext cx="6794640" cy="3206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5800" y="2874960"/>
                    <a:ext cx="679464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17560" y="277920"/>
          <a:ext cx="6794640" cy="384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277920"/>
                    <a:ext cx="679464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787400" y="3755880"/>
          <a:ext cx="679320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7400" y="3755880"/>
                    <a:ext cx="67932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994040" y="776160"/>
          <a:ext cx="6794280" cy="513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776160"/>
                    <a:ext cx="6794280" cy="51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14480" y="609480"/>
          <a:ext cx="680400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4480" y="609480"/>
                    <a:ext cx="68040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944720" y="5106960"/>
          <a:ext cx="6813360" cy="642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44720" y="5106960"/>
                    <a:ext cx="6813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603600" y="1951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087800" y="94140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461960" y="1854360"/>
          <a:ext cx="6811920" cy="3144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1854360"/>
                    <a:ext cx="68119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68320" y="1854360"/>
          <a:ext cx="681228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1854360"/>
                    <a:ext cx="681228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30440" y="277920"/>
          <a:ext cx="6811920" cy="31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77920"/>
                    <a:ext cx="68119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00200" y="3346560"/>
          <a:ext cx="6991200" cy="2914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346560"/>
                    <a:ext cx="69912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492200" y="160488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160488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600200" y="527040"/>
          <a:ext cx="68119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8119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30440" y="3840120"/>
          <a:ext cx="6811920" cy="2573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840120"/>
                    <a:ext cx="68119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68320" y="1108080"/>
          <a:ext cx="681228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1108080"/>
                    <a:ext cx="68122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30440" y="1023840"/>
          <a:ext cx="681192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023840"/>
                    <a:ext cx="6811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698480" y="609480"/>
          <a:ext cx="68137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30440" y="77616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77616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630440" y="444600"/>
          <a:ext cx="6811920" cy="314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444600"/>
                    <a:ext cx="68119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00200" y="367344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67344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698480" y="941400"/>
          <a:ext cx="681372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941400"/>
                    <a:ext cx="68137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530360" y="112680"/>
          <a:ext cx="6813720" cy="250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00200" y="2517840"/>
          <a:ext cx="6811920" cy="386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51784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98480" y="1522440"/>
          <a:ext cx="68137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52244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1560600" y="941400"/>
          <a:ext cx="6813360" cy="314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0600" y="941400"/>
                    <a:ext cx="68133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668600" y="4005360"/>
          <a:ext cx="6813360" cy="2574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8600" y="400536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630440" y="6922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922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630440" y="360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360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668600" y="423540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2354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83672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71480" y="609480"/>
          <a:ext cx="697896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609480"/>
                    <a:ext cx="697896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698480" y="1190520"/>
          <a:ext cx="6813720" cy="450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8480" y="1190520"/>
                    <a:ext cx="68137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668600" y="298440"/>
          <a:ext cx="681336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298440"/>
                    <a:ext cx="6813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222640" y="858960"/>
            <a:ext cx="532116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530360" y="27792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30360" y="4068720"/>
          <a:ext cx="681372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0687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600200" y="444600"/>
          <a:ext cx="68119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30440" y="2268360"/>
          <a:ext cx="6811920" cy="386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22683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68600" y="195120"/>
          <a:ext cx="681336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704960" y="2577960"/>
          <a:ext cx="6807240" cy="3919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04960" y="2577960"/>
                    <a:ext cx="680724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846440" y="218592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6440" y="218592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668600" y="527040"/>
          <a:ext cx="679428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527040"/>
                    <a:ext cx="6794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38360" y="195120"/>
          <a:ext cx="680400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360" y="195120"/>
                    <a:ext cx="6804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260028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60028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00200" y="5086440"/>
          <a:ext cx="6811920" cy="1287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508644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87400" y="609480"/>
          <a:ext cx="679320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5:15Z</dcterms:modified>
  <cp:revision>72</cp:revision>
  <dc:subject/>
  <dc:title>幻灯片 1</dc:title>
</cp:coreProperties>
</file>